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24.gif" ContentType="image/gif"/>
  <Override PartName="/ppt/media/applause.wav" ContentType="audio/x-wav"/>
  <Override PartName="/ppt/media/image5.wmf" ContentType="image/x-wmf"/>
  <Override PartName="/ppt/media/image9.gif" ContentType="image/gif"/>
  <Override PartName="/ppt/media/image8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22.gif" ContentType="image/gif"/>
  <Override PartName="/ppt/media/drumroll.wav" ContentType="audio/x-wav"/>
  <Override PartName="/ppt/media/image16.jpeg" ContentType="image/jpeg"/>
  <Override PartName="/ppt/media/image20.gif" ContentType="image/gif"/>
  <Override PartName="/ppt/media/image18.jpeg" ContentType="image/jpeg"/>
  <Override PartName="/ppt/media/image13.png" ContentType="image/png"/>
  <Override PartName="/ppt/media/image21.gif" ContentType="image/gif"/>
  <Override PartName="/ppt/media/image19.gif" ContentType="image/gif"/>
  <Override PartName="/ppt/media/image4.wmf" ContentType="image/x-wmf"/>
  <Override PartName="/ppt/media/image14.jpeg" ContentType="image/jpeg"/>
  <Override PartName="/ppt/media/image2.jpeg" ContentType="image/jpeg"/>
  <Override PartName="/ppt/media/image3.png" ContentType="image/png"/>
  <Override PartName="/ppt/media/image23.gif" ContentType="image/gif"/>
  <Override PartName="/ppt/media/image1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  <p:custShowLst>
    <p:custShow name="Expunere particularizată 1" id="0">
      <p:sldLst>
        <p:sld r:id="rId3"/>
        <p:sld r:id="rId5"/>
        <p:sld r:id="rId6"/>
        <p:sld r:id="rId18"/>
        <p:sld r:id="rId7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69A-4C39-43DD-9161-4A8B3436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1474-8183-44BF-82B6-F0AA2E92D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D656-EF32-4230-9F4F-9C1C9FB2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4867-1104-4AAC-B298-2DA7E32F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3B6D-0510-4F04-9998-43C7E442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3426-17DD-4121-AB3F-3D738933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75D8-A4C7-446E-A932-A15B25F1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8AA7-65D5-4582-8559-120185F9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7799-99AF-4F63-8B52-77DAF9D1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3BC6-4B59-4030-B028-E0406815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9858-CF2B-462D-B27B-60A8B918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1AB5-B3DE-46E2-8C2E-E5544099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EAA4-9914-44C2-920D-FCF04F6AB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8.jpeg"/><Relationship Id="rId5" Type="http://schemas.openxmlformats.org/officeDocument/2006/relationships/image" Target="../media/image24.gif"/><Relationship Id="rId6" Type="http://schemas.openxmlformats.org/officeDocument/2006/relationships/image" Target="../media/image10.wmf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6.wmf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6.wmf"/><Relationship Id="rId8" Type="http://schemas.openxmlformats.org/officeDocument/2006/relationships/image" Target="../media/image7.png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71600" y="1023840"/>
            <a:ext cx="6400800" cy="48103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68360" y="260280"/>
            <a:ext cx="7920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E  JUCĂM  CU  SILABELE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3500280"/>
            <a:ext cx="5759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JOC INTERACT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DOMENIUL LIMBĂ ŞI COMUNI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NIVEL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84360" y="5229360"/>
            <a:ext cx="626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EDUCATOARE  VERONICA MAZI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GRĂDINIŢA CU PROGRAM NORMAL NR. 2 APA ASĂ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99"/>
                </a:solidFill>
                <a:latin typeface="Arial"/>
              </a:rPr>
              <a:t>COMUNA ASĂU, JUDEŢUL BACĂ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35280" y="148428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411280" y="836640"/>
            <a:ext cx="48261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50000">
                      <a:srgbClr val="ff0000"/>
                    </a:gs>
                    <a:gs pos="100000">
                      <a:srgbClr val="ffccff"/>
                    </a:gs>
                  </a:gsLst>
                  <a:lin ang="8100000"/>
                </a:gradFill>
                <a:latin typeface="Arial Black"/>
              </a:rPr>
              <a:t>B R A V O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50000">
                    <a:srgbClr val="ff0000"/>
                  </a:gs>
                  <a:gs pos="100000">
                    <a:srgbClr val="ffccff"/>
                  </a:gs>
                </a:gsLst>
                <a:lin ang="81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50000">
                      <a:srgbClr val="ff0000"/>
                    </a:gs>
                    <a:gs pos="100000">
                      <a:srgbClr val="ffccff"/>
                    </a:gs>
                  </a:gsLst>
                  <a:lin ang="8100000"/>
                </a:gradFill>
                <a:latin typeface="Arial Black"/>
              </a:rPr>
              <a:t>C O R E C 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50000">
                    <a:srgbClr val="ff0000"/>
                  </a:gs>
                  <a:gs pos="100000">
                    <a:srgbClr val="ffcc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716360" y="3284640"/>
            <a:ext cx="2698920" cy="20635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696080" y="5105520"/>
            <a:ext cx="1054080" cy="1055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771640" y="1700280"/>
            <a:ext cx="2862360" cy="2950920"/>
          </a:xfrm>
          <a:prstGeom prst="rect">
            <a:avLst/>
          </a:prstGeom>
          <a:ln w="0">
            <a:noFill/>
          </a:ln>
        </p:spPr>
      </p:pic>
      <p:sp>
        <p:nvSpPr>
          <p:cNvPr id="229" name="">
            <a:hlinkClick r:id="" action="ppaction://hlinkshowjump?jump=nextslide"/>
          </p:cNvPr>
          <p:cNvSpPr/>
          <p:nvPr/>
        </p:nvSpPr>
        <p:spPr>
          <a:xfrm>
            <a:off x="468360" y="544500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" action="ppaction://hlinkshowjump?jump=lastslide"/>
          </p:cNvPr>
          <p:cNvSpPr/>
          <p:nvPr/>
        </p:nvSpPr>
        <p:spPr>
          <a:xfrm>
            <a:off x="2195640" y="544500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lastslide"/>
          </p:cNvPr>
          <p:cNvSpPr/>
          <p:nvPr/>
        </p:nvSpPr>
        <p:spPr>
          <a:xfrm>
            <a:off x="3995640" y="5445000"/>
            <a:ext cx="115272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lastslide"/>
          </p:cNvPr>
          <p:cNvSpPr/>
          <p:nvPr/>
        </p:nvSpPr>
        <p:spPr>
          <a:xfrm>
            <a:off x="5796000" y="544500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lastslide"/>
          </p:cNvPr>
          <p:cNvSpPr/>
          <p:nvPr/>
        </p:nvSpPr>
        <p:spPr>
          <a:xfrm>
            <a:off x="7451640" y="5445000"/>
            <a:ext cx="115272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00000" y="5589720"/>
            <a:ext cx="1605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627280" y="5589720"/>
            <a:ext cx="1602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356000" y="558972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227640" y="558972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885080" y="558972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9" name=""/>
          <p:cNvSpPr/>
          <p:nvPr/>
        </p:nvSpPr>
        <p:spPr>
          <a:xfrm>
            <a:off x="826920" y="6165720"/>
            <a:ext cx="289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11280" y="6165720"/>
            <a:ext cx="216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771640" y="6165720"/>
            <a:ext cx="216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67280" y="6165720"/>
            <a:ext cx="215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427640" y="6165720"/>
            <a:ext cx="215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6165720"/>
            <a:ext cx="215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24720" y="6165720"/>
            <a:ext cx="14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740720" y="6165720"/>
            <a:ext cx="14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956720" y="6165720"/>
            <a:ext cx="14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172360" y="6165720"/>
            <a:ext cx="144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388360" y="6165720"/>
            <a:ext cx="14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6165720"/>
            <a:ext cx="144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6165720"/>
            <a:ext cx="144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00720" y="6165720"/>
            <a:ext cx="14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16720" y="6165720"/>
            <a:ext cx="14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835280" y="148428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411280" y="836640"/>
            <a:ext cx="48261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50000">
                      <a:srgbClr val="ff0000"/>
                    </a:gs>
                    <a:gs pos="100000">
                      <a:srgbClr val="ffccff"/>
                    </a:gs>
                  </a:gsLst>
                  <a:lin ang="8100000"/>
                </a:gradFill>
                <a:latin typeface="Arial Black"/>
              </a:rPr>
              <a:t>B R A V O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50000">
                    <a:srgbClr val="ff0000"/>
                  </a:gs>
                  <a:gs pos="100000">
                    <a:srgbClr val="ffccff"/>
                  </a:gs>
                </a:gsLst>
                <a:lin ang="81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50000">
                      <a:srgbClr val="ff0000"/>
                    </a:gs>
                    <a:gs pos="100000">
                      <a:srgbClr val="ffccff"/>
                    </a:gs>
                  </a:gsLst>
                  <a:lin ang="8100000"/>
                </a:gradFill>
                <a:latin typeface="Arial Black"/>
              </a:rPr>
              <a:t>C O R E C 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50000">
                    <a:srgbClr val="ff0000"/>
                  </a:gs>
                  <a:gs pos="100000">
                    <a:srgbClr val="ffcc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716360" y="3284640"/>
            <a:ext cx="2698920" cy="20635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696080" y="5105520"/>
            <a:ext cx="1054080" cy="10555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04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2484360" y="1341360"/>
            <a:ext cx="1816200" cy="230364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  <p:pic>
        <p:nvPicPr>
          <p:cNvPr id="263" name="" descr="">
            <a:hlinkClick r:id="" action="ppaction://hlinkshowjump?jump=lastslide"/>
          </p:cNvPr>
          <p:cNvPicPr/>
          <p:nvPr/>
        </p:nvPicPr>
        <p:blipFill>
          <a:blip r:embed="rId3"/>
          <a:srcRect l="0" t="16434" r="8438" b="12325"/>
          <a:stretch/>
        </p:blipFill>
        <p:spPr>
          <a:xfrm>
            <a:off x="4890960" y="1916280"/>
            <a:ext cx="1860840" cy="259236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  <p:sp>
        <p:nvSpPr>
          <p:cNvPr id="264" name=""/>
          <p:cNvSpPr/>
          <p:nvPr/>
        </p:nvSpPr>
        <p:spPr>
          <a:xfrm>
            <a:off x="324000" y="26028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990000"/>
                </a:solidFill>
                <a:latin typeface="Arial"/>
              </a:rPr>
              <a:t>Ai recunoscut povestea cu care au legătură cuvinte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8360" y="69228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990000"/>
                </a:solidFill>
                <a:latin typeface="Arial"/>
              </a:rPr>
              <a:t>Răspunde printr-un click pe imaginea care reprezintă poveste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179280" y="1773360"/>
            <a:ext cx="23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990000"/>
                </a:solidFill>
                <a:latin typeface="Arial"/>
              </a:rPr>
              <a:t>Fata babei şi fata moşneag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0" y="1484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990000"/>
                </a:solidFill>
                <a:latin typeface="Arial"/>
              </a:rPr>
              <a:t>Capra cu trei ie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67280" y="5084640"/>
            <a:ext cx="32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990000"/>
                </a:solidFill>
                <a:latin typeface="Arial"/>
              </a:rPr>
              <a:t>Scufiţa Roş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7"/>
          <a:srcRect l="3009" t="9872" r="18028" b="30915"/>
          <a:stretch/>
        </p:blipFill>
        <p:spPr>
          <a:xfrm>
            <a:off x="1042920" y="4221000"/>
            <a:ext cx="3024360" cy="208944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</p:spTree>
  </p:cSld>
  <p:transition spd="med">
    <p:cover dir="ru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880"/>
                            </p:stCondLst>
                            <p:childTnLst>
                              <p:par>
                                <p:cTn id="1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880"/>
                            </p:stCondLst>
                            <p:childTnLst>
                              <p:par>
                                <p:cTn id="1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835280" y="148428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411280" y="836640"/>
            <a:ext cx="48261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50000">
                      <a:srgbClr val="ff0000"/>
                    </a:gs>
                    <a:gs pos="100000">
                      <a:srgbClr val="ffccff"/>
                    </a:gs>
                  </a:gsLst>
                  <a:lin ang="8100000"/>
                </a:gradFill>
                <a:latin typeface="Arial Black"/>
              </a:rPr>
              <a:t>B R A V O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50000">
                    <a:srgbClr val="ff0000"/>
                  </a:gs>
                  <a:gs pos="100000">
                    <a:srgbClr val="ffccff"/>
                  </a:gs>
                </a:gsLst>
                <a:lin ang="81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50000">
                      <a:srgbClr val="ff0000"/>
                    </a:gs>
                    <a:gs pos="100000">
                      <a:srgbClr val="ffccff"/>
                    </a:gs>
                  </a:gsLst>
                  <a:lin ang="8100000"/>
                </a:gradFill>
                <a:latin typeface="Arial Black"/>
              </a:rPr>
              <a:t>C O R E C 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50000">
                    <a:srgbClr val="ff0000"/>
                  </a:gs>
                  <a:gs pos="100000">
                    <a:srgbClr val="ffcc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4716360" y="3284640"/>
            <a:ext cx="2698920" cy="20635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696080" y="5105520"/>
            <a:ext cx="1054080" cy="105552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-98280"/>
            <a:ext cx="9144000" cy="69562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116000" y="2997360"/>
            <a:ext cx="2816280" cy="33130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11280" y="1557360"/>
            <a:ext cx="684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258920" y="1700280"/>
            <a:ext cx="5184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 F Â R Ş I 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932360" y="4869000"/>
            <a:ext cx="4038480" cy="161100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2174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2057400" y="2209680"/>
            <a:ext cx="5410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i incearca, nu fi necajit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6400800" y="838080"/>
            <a:ext cx="2362320" cy="14954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2971800" y="33526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4859280" y="3422520"/>
            <a:ext cx="2376720" cy="16542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1763640" y="620640"/>
            <a:ext cx="5761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NU  FI  SUPĂRAT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I  ÎNCEARCĂ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90" name="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7848720" y="4952880"/>
            <a:ext cx="1054080" cy="10558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71640" y="476280"/>
            <a:ext cx="748980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990000"/>
                </a:solidFill>
                <a:latin typeface="Tahoma"/>
              </a:rPr>
              <a:t>REGULILE JOCULUI SUNT URMĂTOARE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pe pagină va apărea o imagine, pe care va trebui să o recunoşti şi să o denumeşt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vei despărţi cuvântul în silab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numeri silabele şi alegi, prin click, cifra corespunzătoare numărului de silab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după fiecare răspuns corect, ai o recompensă;dacă răspunsul este greşit, nu fi supărat, întoarce-te şi mai încearcă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să urmăreşti cu atenţie cuvintele pentru că va trebui să indici povestea cu care au legătur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68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68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248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8480"/>
                            </p:stCondLst>
                            <p:childTnLst>
                              <p:par>
                                <p:cTn id="79" nodeType="after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 flipH="1">
            <a:off x="3058920" y="476280"/>
            <a:ext cx="2431800" cy="3960720"/>
          </a:xfrm>
          <a:prstGeom prst="rect">
            <a:avLst/>
          </a:prstGeom>
          <a:ln w="0">
            <a:noFill/>
          </a:ln>
        </p:spPr>
      </p:pic>
      <p:sp>
        <p:nvSpPr>
          <p:cNvPr id="51" name="">
            <a:hlinkClick r:id="" action="ppaction://hlinkshowjump?jump=lastslide"/>
          </p:cNvPr>
          <p:cNvSpPr/>
          <p:nvPr/>
        </p:nvSpPr>
        <p:spPr>
          <a:xfrm>
            <a:off x="1692360" y="537372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7640" y="5373720"/>
            <a:ext cx="115272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lastslide"/>
          </p:cNvPr>
          <p:cNvSpPr/>
          <p:nvPr/>
        </p:nvSpPr>
        <p:spPr>
          <a:xfrm>
            <a:off x="4284720" y="537372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lastslide"/>
          </p:cNvPr>
          <p:cNvSpPr/>
          <p:nvPr/>
        </p:nvSpPr>
        <p:spPr>
          <a:xfrm>
            <a:off x="5796000" y="537372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5877000"/>
            <a:ext cx="107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lastslide"/>
          </p:cNvPr>
          <p:cNvSpPr/>
          <p:nvPr/>
        </p:nvSpPr>
        <p:spPr>
          <a:xfrm>
            <a:off x="395280" y="537372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00000" y="5516640"/>
            <a:ext cx="1605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6237360"/>
            <a:ext cx="43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124000" y="5516640"/>
            <a:ext cx="160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1835280" y="6237360"/>
            <a:ext cx="288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68360" y="6237360"/>
            <a:ext cx="289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419640" y="5516640"/>
            <a:ext cx="21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6237360"/>
            <a:ext cx="216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19640" y="6237360"/>
            <a:ext cx="21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08360" y="6237360"/>
            <a:ext cx="216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788000" y="5516640"/>
            <a:ext cx="21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4427640" y="6237360"/>
            <a:ext cx="144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3280" y="6237360"/>
            <a:ext cx="142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6237360"/>
            <a:ext cx="144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6237360"/>
            <a:ext cx="144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227640" y="551664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6237360"/>
            <a:ext cx="144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00720" y="6237360"/>
            <a:ext cx="142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16720" y="6237360"/>
            <a:ext cx="142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32720" y="6237360"/>
            <a:ext cx="144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6237360"/>
            <a:ext cx="142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937280" y="5591880"/>
            <a:ext cx="1165320" cy="910440"/>
            <a:chOff x="7937280" y="5591880"/>
            <a:chExt cx="1165320" cy="910440"/>
          </a:xfrm>
        </p:grpSpPr>
        <p:pic>
          <p:nvPicPr>
            <p:cNvPr id="78" name="" descr=""/>
            <p:cNvPicPr/>
            <p:nvPr/>
          </p:nvPicPr>
          <p:blipFill>
            <a:blip r:embed="rId3"/>
            <a:stretch/>
          </p:blipFill>
          <p:spPr>
            <a:xfrm rot="1816200">
              <a:off x="8058960" y="5745240"/>
              <a:ext cx="60948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4"/>
            <a:stretch/>
          </p:blipFill>
          <p:spPr>
            <a:xfrm rot="1816200">
              <a:off x="8483400" y="5693040"/>
              <a:ext cx="53316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"/>
          <p:cNvGrpSpPr/>
          <p:nvPr/>
        </p:nvGrpSpPr>
        <p:grpSpPr>
          <a:xfrm>
            <a:off x="7812000" y="5229360"/>
            <a:ext cx="838440" cy="1294560"/>
            <a:chOff x="7812000" y="5229360"/>
            <a:chExt cx="838440" cy="1294560"/>
          </a:xfrm>
        </p:grpSpPr>
        <p:pic>
          <p:nvPicPr>
            <p:cNvPr id="81" name="" descr=""/>
            <p:cNvPicPr/>
            <p:nvPr/>
          </p:nvPicPr>
          <p:blipFill>
            <a:blip r:embed="rId5"/>
            <a:stretch/>
          </p:blipFill>
          <p:spPr>
            <a:xfrm>
              <a:off x="7812000" y="5567040"/>
              <a:ext cx="609840" cy="95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6"/>
            <a:stretch/>
          </p:blipFill>
          <p:spPr>
            <a:xfrm>
              <a:off x="8116920" y="5229360"/>
              <a:ext cx="533520" cy="717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7532640" y="5526000"/>
            <a:ext cx="881280" cy="1278000"/>
            <a:chOff x="7532640" y="5526000"/>
            <a:chExt cx="881280" cy="1278000"/>
          </a:xfrm>
        </p:grpSpPr>
        <p:pic>
          <p:nvPicPr>
            <p:cNvPr id="84" name="" descr=""/>
            <p:cNvPicPr/>
            <p:nvPr/>
          </p:nvPicPr>
          <p:blipFill>
            <a:blip r:embed="rId7"/>
            <a:stretch/>
          </p:blipFill>
          <p:spPr>
            <a:xfrm rot="19980600">
              <a:off x="7668360" y="5961240"/>
              <a:ext cx="609480" cy="74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8"/>
            <a:stretch/>
          </p:blipFill>
          <p:spPr>
            <a:xfrm rot="19980600">
              <a:off x="7782120" y="5616360"/>
              <a:ext cx="533160" cy="558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sh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35280" y="148428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411280" y="836640"/>
            <a:ext cx="48261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50000">
                      <a:srgbClr val="ff0000"/>
                    </a:gs>
                    <a:gs pos="100000">
                      <a:srgbClr val="ffccff"/>
                    </a:gs>
                  </a:gsLst>
                  <a:lin ang="8100000"/>
                </a:gradFill>
                <a:latin typeface="Arial Black"/>
              </a:rPr>
              <a:t>B R A V O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50000">
                    <a:srgbClr val="ff0000"/>
                  </a:gs>
                  <a:gs pos="100000">
                    <a:srgbClr val="ffccff"/>
                  </a:gs>
                </a:gsLst>
                <a:lin ang="81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50000">
                      <a:srgbClr val="ff0000"/>
                    </a:gs>
                    <a:gs pos="100000">
                      <a:srgbClr val="ffccff"/>
                    </a:gs>
                  </a:gsLst>
                  <a:lin ang="8100000"/>
                </a:gradFill>
                <a:latin typeface="Arial Black"/>
              </a:rPr>
              <a:t>C O R E C 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50000">
                    <a:srgbClr val="ff0000"/>
                  </a:gs>
                  <a:gs pos="100000">
                    <a:srgbClr val="ffcc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716360" y="3284640"/>
            <a:ext cx="2698920" cy="2063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696080" y="5105520"/>
            <a:ext cx="1054080" cy="105552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6963480" y="4206960"/>
            <a:ext cx="1084320" cy="538560"/>
            <a:chOff x="6963480" y="4206960"/>
            <a:chExt cx="1084320" cy="538560"/>
          </a:xfrm>
        </p:grpSpPr>
        <p:sp>
          <p:nvSpPr>
            <p:cNvPr id="93" name=""/>
            <p:cNvSpPr/>
            <p:nvPr/>
          </p:nvSpPr>
          <p:spPr>
            <a:xfrm>
              <a:off x="6963480" y="4206960"/>
              <a:ext cx="1083960" cy="501840"/>
            </a:xfrm>
            <a:custGeom>
              <a:avLst/>
              <a:gdLst/>
              <a:ahLst/>
              <a:rect l="l" t="t" r="r" b="b"/>
              <a:pathLst>
                <a:path w="3757" h="1930">
                  <a:moveTo>
                    <a:pt x="2611" y="1092"/>
                  </a:moveTo>
                  <a:lnTo>
                    <a:pt x="2389" y="1260"/>
                  </a:lnTo>
                  <a:lnTo>
                    <a:pt x="2611" y="1092"/>
                  </a:lnTo>
                  <a:lnTo>
                    <a:pt x="2608" y="1039"/>
                  </a:lnTo>
                  <a:lnTo>
                    <a:pt x="2608" y="1013"/>
                  </a:lnTo>
                  <a:lnTo>
                    <a:pt x="2610" y="988"/>
                  </a:lnTo>
                  <a:lnTo>
                    <a:pt x="2615" y="935"/>
                  </a:lnTo>
                  <a:lnTo>
                    <a:pt x="2626" y="883"/>
                  </a:lnTo>
                  <a:lnTo>
                    <a:pt x="2639" y="831"/>
                  </a:lnTo>
                  <a:lnTo>
                    <a:pt x="2657" y="778"/>
                  </a:lnTo>
                  <a:lnTo>
                    <a:pt x="2666" y="750"/>
                  </a:lnTo>
                  <a:lnTo>
                    <a:pt x="2678" y="724"/>
                  </a:lnTo>
                  <a:lnTo>
                    <a:pt x="2705" y="671"/>
                  </a:lnTo>
                  <a:lnTo>
                    <a:pt x="2734" y="616"/>
                  </a:lnTo>
                  <a:lnTo>
                    <a:pt x="2749" y="588"/>
                  </a:lnTo>
                  <a:lnTo>
                    <a:pt x="2767" y="562"/>
                  </a:lnTo>
                  <a:lnTo>
                    <a:pt x="2804" y="507"/>
                  </a:lnTo>
                  <a:lnTo>
                    <a:pt x="2848" y="451"/>
                  </a:lnTo>
                  <a:lnTo>
                    <a:pt x="2892" y="395"/>
                  </a:lnTo>
                  <a:lnTo>
                    <a:pt x="2942" y="340"/>
                  </a:lnTo>
                  <a:lnTo>
                    <a:pt x="2996" y="283"/>
                  </a:lnTo>
                  <a:lnTo>
                    <a:pt x="3055" y="228"/>
                  </a:lnTo>
                  <a:lnTo>
                    <a:pt x="3010" y="249"/>
                  </a:lnTo>
                  <a:lnTo>
                    <a:pt x="2964" y="273"/>
                  </a:lnTo>
                  <a:lnTo>
                    <a:pt x="2917" y="298"/>
                  </a:lnTo>
                  <a:lnTo>
                    <a:pt x="2872" y="328"/>
                  </a:lnTo>
                  <a:lnTo>
                    <a:pt x="2065" y="1429"/>
                  </a:lnTo>
                  <a:lnTo>
                    <a:pt x="2065" y="1326"/>
                  </a:lnTo>
                  <a:lnTo>
                    <a:pt x="2071" y="1225"/>
                  </a:lnTo>
                  <a:lnTo>
                    <a:pt x="2083" y="1126"/>
                  </a:lnTo>
                  <a:lnTo>
                    <a:pt x="2102" y="1029"/>
                  </a:lnTo>
                  <a:lnTo>
                    <a:pt x="2124" y="939"/>
                  </a:lnTo>
                  <a:lnTo>
                    <a:pt x="2150" y="851"/>
                  </a:lnTo>
                  <a:lnTo>
                    <a:pt x="2182" y="763"/>
                  </a:lnTo>
                  <a:lnTo>
                    <a:pt x="2218" y="678"/>
                  </a:lnTo>
                  <a:lnTo>
                    <a:pt x="2258" y="593"/>
                  </a:lnTo>
                  <a:lnTo>
                    <a:pt x="2305" y="510"/>
                  </a:lnTo>
                  <a:lnTo>
                    <a:pt x="2356" y="427"/>
                  </a:lnTo>
                  <a:lnTo>
                    <a:pt x="2413" y="348"/>
                  </a:lnTo>
                  <a:lnTo>
                    <a:pt x="1873" y="876"/>
                  </a:lnTo>
                  <a:lnTo>
                    <a:pt x="1870" y="821"/>
                  </a:lnTo>
                  <a:lnTo>
                    <a:pt x="1871" y="766"/>
                  </a:lnTo>
                  <a:lnTo>
                    <a:pt x="1874" y="711"/>
                  </a:lnTo>
                  <a:lnTo>
                    <a:pt x="1880" y="655"/>
                  </a:lnTo>
                  <a:lnTo>
                    <a:pt x="1889" y="600"/>
                  </a:lnTo>
                  <a:lnTo>
                    <a:pt x="1901" y="545"/>
                  </a:lnTo>
                  <a:lnTo>
                    <a:pt x="1914" y="490"/>
                  </a:lnTo>
                  <a:lnTo>
                    <a:pt x="1932" y="437"/>
                  </a:lnTo>
                  <a:lnTo>
                    <a:pt x="1950" y="382"/>
                  </a:lnTo>
                  <a:lnTo>
                    <a:pt x="1973" y="327"/>
                  </a:lnTo>
                  <a:lnTo>
                    <a:pt x="1997" y="271"/>
                  </a:lnTo>
                  <a:lnTo>
                    <a:pt x="2024" y="219"/>
                  </a:lnTo>
                  <a:lnTo>
                    <a:pt x="2054" y="163"/>
                  </a:lnTo>
                  <a:lnTo>
                    <a:pt x="2087" y="108"/>
                  </a:lnTo>
                  <a:lnTo>
                    <a:pt x="2122" y="53"/>
                  </a:lnTo>
                  <a:lnTo>
                    <a:pt x="2161" y="0"/>
                  </a:lnTo>
                  <a:lnTo>
                    <a:pt x="2125" y="30"/>
                  </a:lnTo>
                  <a:lnTo>
                    <a:pt x="2089" y="65"/>
                  </a:lnTo>
                  <a:lnTo>
                    <a:pt x="2053" y="102"/>
                  </a:lnTo>
                  <a:lnTo>
                    <a:pt x="2020" y="142"/>
                  </a:lnTo>
                  <a:lnTo>
                    <a:pt x="1984" y="183"/>
                  </a:lnTo>
                  <a:lnTo>
                    <a:pt x="1948" y="227"/>
                  </a:lnTo>
                  <a:lnTo>
                    <a:pt x="1912" y="274"/>
                  </a:lnTo>
                  <a:lnTo>
                    <a:pt x="1877" y="323"/>
                  </a:lnTo>
                  <a:lnTo>
                    <a:pt x="1840" y="375"/>
                  </a:lnTo>
                  <a:lnTo>
                    <a:pt x="1804" y="429"/>
                  </a:lnTo>
                  <a:lnTo>
                    <a:pt x="1768" y="485"/>
                  </a:lnTo>
                  <a:lnTo>
                    <a:pt x="1732" y="544"/>
                  </a:lnTo>
                  <a:lnTo>
                    <a:pt x="1693" y="605"/>
                  </a:lnTo>
                  <a:lnTo>
                    <a:pt x="1657" y="669"/>
                  </a:lnTo>
                  <a:lnTo>
                    <a:pt x="1621" y="735"/>
                  </a:lnTo>
                  <a:lnTo>
                    <a:pt x="1585" y="804"/>
                  </a:lnTo>
                  <a:lnTo>
                    <a:pt x="1578" y="768"/>
                  </a:lnTo>
                  <a:lnTo>
                    <a:pt x="1574" y="731"/>
                  </a:lnTo>
                  <a:lnTo>
                    <a:pt x="1572" y="693"/>
                  </a:lnTo>
                  <a:lnTo>
                    <a:pt x="1573" y="653"/>
                  </a:lnTo>
                  <a:lnTo>
                    <a:pt x="1574" y="611"/>
                  </a:lnTo>
                  <a:lnTo>
                    <a:pt x="1580" y="569"/>
                  </a:lnTo>
                  <a:lnTo>
                    <a:pt x="1586" y="526"/>
                  </a:lnTo>
                  <a:lnTo>
                    <a:pt x="1596" y="481"/>
                  </a:lnTo>
                  <a:lnTo>
                    <a:pt x="1606" y="435"/>
                  </a:lnTo>
                  <a:lnTo>
                    <a:pt x="1619" y="387"/>
                  </a:lnTo>
                  <a:lnTo>
                    <a:pt x="1633" y="337"/>
                  </a:lnTo>
                  <a:lnTo>
                    <a:pt x="1651" y="287"/>
                  </a:lnTo>
                  <a:lnTo>
                    <a:pt x="1669" y="234"/>
                  </a:lnTo>
                  <a:lnTo>
                    <a:pt x="1692" y="181"/>
                  </a:lnTo>
                  <a:lnTo>
                    <a:pt x="1715" y="127"/>
                  </a:lnTo>
                  <a:lnTo>
                    <a:pt x="1741" y="72"/>
                  </a:lnTo>
                  <a:lnTo>
                    <a:pt x="1699" y="106"/>
                  </a:lnTo>
                  <a:lnTo>
                    <a:pt x="1660" y="144"/>
                  </a:lnTo>
                  <a:lnTo>
                    <a:pt x="1620" y="186"/>
                  </a:lnTo>
                  <a:lnTo>
                    <a:pt x="1584" y="234"/>
                  </a:lnTo>
                  <a:lnTo>
                    <a:pt x="1548" y="285"/>
                  </a:lnTo>
                  <a:lnTo>
                    <a:pt x="1514" y="340"/>
                  </a:lnTo>
                  <a:lnTo>
                    <a:pt x="1481" y="399"/>
                  </a:lnTo>
                  <a:lnTo>
                    <a:pt x="1451" y="463"/>
                  </a:lnTo>
                  <a:lnTo>
                    <a:pt x="1420" y="529"/>
                  </a:lnTo>
                  <a:lnTo>
                    <a:pt x="1391" y="601"/>
                  </a:lnTo>
                  <a:lnTo>
                    <a:pt x="1363" y="677"/>
                  </a:lnTo>
                  <a:lnTo>
                    <a:pt x="1338" y="757"/>
                  </a:lnTo>
                  <a:lnTo>
                    <a:pt x="1313" y="840"/>
                  </a:lnTo>
                  <a:lnTo>
                    <a:pt x="1290" y="929"/>
                  </a:lnTo>
                  <a:lnTo>
                    <a:pt x="1267" y="1020"/>
                  </a:lnTo>
                  <a:lnTo>
                    <a:pt x="1248" y="1117"/>
                  </a:lnTo>
                  <a:lnTo>
                    <a:pt x="1228" y="1221"/>
                  </a:lnTo>
                  <a:lnTo>
                    <a:pt x="1210" y="1330"/>
                  </a:lnTo>
                  <a:lnTo>
                    <a:pt x="1192" y="1443"/>
                  </a:lnTo>
                  <a:lnTo>
                    <a:pt x="1177" y="1561"/>
                  </a:lnTo>
                  <a:lnTo>
                    <a:pt x="1162" y="1480"/>
                  </a:lnTo>
                  <a:lnTo>
                    <a:pt x="1146" y="1401"/>
                  </a:lnTo>
                  <a:lnTo>
                    <a:pt x="1128" y="1319"/>
                  </a:lnTo>
                  <a:lnTo>
                    <a:pt x="1109" y="1240"/>
                  </a:lnTo>
                  <a:lnTo>
                    <a:pt x="1086" y="1158"/>
                  </a:lnTo>
                  <a:lnTo>
                    <a:pt x="1062" y="1079"/>
                  </a:lnTo>
                  <a:lnTo>
                    <a:pt x="1037" y="997"/>
                  </a:lnTo>
                  <a:lnTo>
                    <a:pt x="1009" y="918"/>
                  </a:lnTo>
                  <a:lnTo>
                    <a:pt x="979" y="837"/>
                  </a:lnTo>
                  <a:lnTo>
                    <a:pt x="947" y="757"/>
                  </a:lnTo>
                  <a:lnTo>
                    <a:pt x="913" y="676"/>
                  </a:lnTo>
                  <a:lnTo>
                    <a:pt x="878" y="597"/>
                  </a:lnTo>
                  <a:lnTo>
                    <a:pt x="841" y="515"/>
                  </a:lnTo>
                  <a:lnTo>
                    <a:pt x="802" y="436"/>
                  </a:lnTo>
                  <a:lnTo>
                    <a:pt x="761" y="354"/>
                  </a:lnTo>
                  <a:lnTo>
                    <a:pt x="719" y="275"/>
                  </a:lnTo>
                  <a:lnTo>
                    <a:pt x="671" y="240"/>
                  </a:lnTo>
                  <a:lnTo>
                    <a:pt x="623" y="214"/>
                  </a:lnTo>
                  <a:lnTo>
                    <a:pt x="575" y="193"/>
                  </a:lnTo>
                  <a:lnTo>
                    <a:pt x="528" y="180"/>
                  </a:lnTo>
                  <a:lnTo>
                    <a:pt x="571" y="252"/>
                  </a:lnTo>
                  <a:lnTo>
                    <a:pt x="613" y="324"/>
                  </a:lnTo>
                  <a:lnTo>
                    <a:pt x="650" y="394"/>
                  </a:lnTo>
                  <a:lnTo>
                    <a:pt x="688" y="463"/>
                  </a:lnTo>
                  <a:lnTo>
                    <a:pt x="695" y="479"/>
                  </a:lnTo>
                  <a:lnTo>
                    <a:pt x="703" y="496"/>
                  </a:lnTo>
                  <a:lnTo>
                    <a:pt x="720" y="529"/>
                  </a:lnTo>
                  <a:lnTo>
                    <a:pt x="734" y="562"/>
                  </a:lnTo>
                  <a:lnTo>
                    <a:pt x="750" y="595"/>
                  </a:lnTo>
                  <a:lnTo>
                    <a:pt x="776" y="660"/>
                  </a:lnTo>
                  <a:lnTo>
                    <a:pt x="788" y="691"/>
                  </a:lnTo>
                  <a:lnTo>
                    <a:pt x="791" y="699"/>
                  </a:lnTo>
                  <a:lnTo>
                    <a:pt x="794" y="707"/>
                  </a:lnTo>
                  <a:lnTo>
                    <a:pt x="802" y="724"/>
                  </a:lnTo>
                  <a:lnTo>
                    <a:pt x="811" y="754"/>
                  </a:lnTo>
                  <a:lnTo>
                    <a:pt x="822" y="785"/>
                  </a:lnTo>
                  <a:lnTo>
                    <a:pt x="840" y="845"/>
                  </a:lnTo>
                  <a:lnTo>
                    <a:pt x="847" y="874"/>
                  </a:lnTo>
                  <a:lnTo>
                    <a:pt x="854" y="904"/>
                  </a:lnTo>
                  <a:lnTo>
                    <a:pt x="868" y="961"/>
                  </a:lnTo>
                  <a:lnTo>
                    <a:pt x="876" y="1017"/>
                  </a:lnTo>
                  <a:lnTo>
                    <a:pt x="880" y="1043"/>
                  </a:lnTo>
                  <a:lnTo>
                    <a:pt x="880" y="1049"/>
                  </a:lnTo>
                  <a:lnTo>
                    <a:pt x="881" y="1056"/>
                  </a:lnTo>
                  <a:lnTo>
                    <a:pt x="883" y="1071"/>
                  </a:lnTo>
                  <a:lnTo>
                    <a:pt x="887" y="1123"/>
                  </a:lnTo>
                  <a:lnTo>
                    <a:pt x="889" y="1176"/>
                  </a:lnTo>
                  <a:lnTo>
                    <a:pt x="858" y="1104"/>
                  </a:lnTo>
                  <a:lnTo>
                    <a:pt x="829" y="1039"/>
                  </a:lnTo>
                  <a:lnTo>
                    <a:pt x="798" y="977"/>
                  </a:lnTo>
                  <a:lnTo>
                    <a:pt x="782" y="948"/>
                  </a:lnTo>
                  <a:lnTo>
                    <a:pt x="768" y="922"/>
                  </a:lnTo>
                  <a:lnTo>
                    <a:pt x="737" y="869"/>
                  </a:lnTo>
                  <a:lnTo>
                    <a:pt x="706" y="822"/>
                  </a:lnTo>
                  <a:lnTo>
                    <a:pt x="689" y="799"/>
                  </a:lnTo>
                  <a:lnTo>
                    <a:pt x="673" y="779"/>
                  </a:lnTo>
                  <a:lnTo>
                    <a:pt x="642" y="743"/>
                  </a:lnTo>
                  <a:lnTo>
                    <a:pt x="608" y="709"/>
                  </a:lnTo>
                  <a:lnTo>
                    <a:pt x="592" y="694"/>
                  </a:lnTo>
                  <a:lnTo>
                    <a:pt x="576" y="681"/>
                  </a:lnTo>
                  <a:lnTo>
                    <a:pt x="542" y="657"/>
                  </a:lnTo>
                  <a:lnTo>
                    <a:pt x="509" y="640"/>
                  </a:lnTo>
                  <a:lnTo>
                    <a:pt x="491" y="631"/>
                  </a:lnTo>
                  <a:lnTo>
                    <a:pt x="474" y="625"/>
                  </a:lnTo>
                  <a:lnTo>
                    <a:pt x="440" y="616"/>
                  </a:lnTo>
                  <a:lnTo>
                    <a:pt x="422" y="612"/>
                  </a:lnTo>
                  <a:lnTo>
                    <a:pt x="406" y="611"/>
                  </a:lnTo>
                  <a:lnTo>
                    <a:pt x="372" y="612"/>
                  </a:lnTo>
                  <a:lnTo>
                    <a:pt x="402" y="655"/>
                  </a:lnTo>
                  <a:lnTo>
                    <a:pt x="431" y="699"/>
                  </a:lnTo>
                  <a:lnTo>
                    <a:pt x="457" y="741"/>
                  </a:lnTo>
                  <a:lnTo>
                    <a:pt x="469" y="761"/>
                  </a:lnTo>
                  <a:lnTo>
                    <a:pt x="482" y="783"/>
                  </a:lnTo>
                  <a:lnTo>
                    <a:pt x="493" y="802"/>
                  </a:lnTo>
                  <a:lnTo>
                    <a:pt x="505" y="822"/>
                  </a:lnTo>
                  <a:lnTo>
                    <a:pt x="515" y="841"/>
                  </a:lnTo>
                  <a:lnTo>
                    <a:pt x="520" y="851"/>
                  </a:lnTo>
                  <a:lnTo>
                    <a:pt x="522" y="856"/>
                  </a:lnTo>
                  <a:lnTo>
                    <a:pt x="526" y="862"/>
                  </a:lnTo>
                  <a:lnTo>
                    <a:pt x="544" y="900"/>
                  </a:lnTo>
                  <a:lnTo>
                    <a:pt x="552" y="919"/>
                  </a:lnTo>
                  <a:lnTo>
                    <a:pt x="562" y="940"/>
                  </a:lnTo>
                  <a:lnTo>
                    <a:pt x="575" y="976"/>
                  </a:lnTo>
                  <a:lnTo>
                    <a:pt x="588" y="1012"/>
                  </a:lnTo>
                  <a:lnTo>
                    <a:pt x="593" y="1029"/>
                  </a:lnTo>
                  <a:lnTo>
                    <a:pt x="595" y="1037"/>
                  </a:lnTo>
                  <a:lnTo>
                    <a:pt x="599" y="1047"/>
                  </a:lnTo>
                  <a:lnTo>
                    <a:pt x="608" y="1083"/>
                  </a:lnTo>
                  <a:lnTo>
                    <a:pt x="611" y="1098"/>
                  </a:lnTo>
                  <a:lnTo>
                    <a:pt x="614" y="1115"/>
                  </a:lnTo>
                  <a:lnTo>
                    <a:pt x="619" y="1149"/>
                  </a:lnTo>
                  <a:lnTo>
                    <a:pt x="623" y="1180"/>
                  </a:lnTo>
                  <a:lnTo>
                    <a:pt x="623" y="1195"/>
                  </a:lnTo>
                  <a:lnTo>
                    <a:pt x="624" y="1212"/>
                  </a:lnTo>
                  <a:lnTo>
                    <a:pt x="547" y="1170"/>
                  </a:lnTo>
                  <a:lnTo>
                    <a:pt x="509" y="1151"/>
                  </a:lnTo>
                  <a:lnTo>
                    <a:pt x="472" y="1135"/>
                  </a:lnTo>
                  <a:lnTo>
                    <a:pt x="432" y="1120"/>
                  </a:lnTo>
                  <a:lnTo>
                    <a:pt x="394" y="1108"/>
                  </a:lnTo>
                  <a:lnTo>
                    <a:pt x="317" y="1087"/>
                  </a:lnTo>
                  <a:lnTo>
                    <a:pt x="238" y="1074"/>
                  </a:lnTo>
                  <a:lnTo>
                    <a:pt x="198" y="1069"/>
                  </a:lnTo>
                  <a:lnTo>
                    <a:pt x="160" y="1068"/>
                  </a:lnTo>
                  <a:lnTo>
                    <a:pt x="119" y="1067"/>
                  </a:lnTo>
                  <a:lnTo>
                    <a:pt x="79" y="1069"/>
                  </a:lnTo>
                  <a:lnTo>
                    <a:pt x="0" y="1080"/>
                  </a:lnTo>
                  <a:lnTo>
                    <a:pt x="44" y="1102"/>
                  </a:lnTo>
                  <a:lnTo>
                    <a:pt x="88" y="1123"/>
                  </a:lnTo>
                  <a:lnTo>
                    <a:pt x="130" y="1145"/>
                  </a:lnTo>
                  <a:lnTo>
                    <a:pt x="170" y="1169"/>
                  </a:lnTo>
                  <a:lnTo>
                    <a:pt x="208" y="1192"/>
                  </a:lnTo>
                  <a:lnTo>
                    <a:pt x="244" y="1216"/>
                  </a:lnTo>
                  <a:lnTo>
                    <a:pt x="278" y="1240"/>
                  </a:lnTo>
                  <a:lnTo>
                    <a:pt x="312" y="1264"/>
                  </a:lnTo>
                  <a:lnTo>
                    <a:pt x="342" y="1288"/>
                  </a:lnTo>
                  <a:lnTo>
                    <a:pt x="371" y="1312"/>
                  </a:lnTo>
                  <a:lnTo>
                    <a:pt x="397" y="1336"/>
                  </a:lnTo>
                  <a:lnTo>
                    <a:pt x="422" y="1362"/>
                  </a:lnTo>
                  <a:lnTo>
                    <a:pt x="445" y="1387"/>
                  </a:lnTo>
                  <a:lnTo>
                    <a:pt x="467" y="1414"/>
                  </a:lnTo>
                  <a:lnTo>
                    <a:pt x="486" y="1440"/>
                  </a:lnTo>
                  <a:lnTo>
                    <a:pt x="504" y="1468"/>
                  </a:lnTo>
                  <a:lnTo>
                    <a:pt x="518" y="1494"/>
                  </a:lnTo>
                  <a:lnTo>
                    <a:pt x="532" y="1521"/>
                  </a:lnTo>
                  <a:lnTo>
                    <a:pt x="544" y="1547"/>
                  </a:lnTo>
                  <a:lnTo>
                    <a:pt x="554" y="1576"/>
                  </a:lnTo>
                  <a:lnTo>
                    <a:pt x="562" y="1602"/>
                  </a:lnTo>
                  <a:lnTo>
                    <a:pt x="568" y="1631"/>
                  </a:lnTo>
                  <a:lnTo>
                    <a:pt x="571" y="1660"/>
                  </a:lnTo>
                  <a:lnTo>
                    <a:pt x="575" y="1689"/>
                  </a:lnTo>
                  <a:lnTo>
                    <a:pt x="575" y="1717"/>
                  </a:lnTo>
                  <a:lnTo>
                    <a:pt x="574" y="1746"/>
                  </a:lnTo>
                  <a:lnTo>
                    <a:pt x="570" y="1775"/>
                  </a:lnTo>
                  <a:lnTo>
                    <a:pt x="565" y="1806"/>
                  </a:lnTo>
                  <a:lnTo>
                    <a:pt x="558" y="1836"/>
                  </a:lnTo>
                  <a:lnTo>
                    <a:pt x="550" y="1867"/>
                  </a:lnTo>
                  <a:lnTo>
                    <a:pt x="539" y="1899"/>
                  </a:lnTo>
                  <a:lnTo>
                    <a:pt x="527" y="1930"/>
                  </a:lnTo>
                  <a:lnTo>
                    <a:pt x="617" y="1906"/>
                  </a:lnTo>
                  <a:lnTo>
                    <a:pt x="708" y="1884"/>
                  </a:lnTo>
                  <a:lnTo>
                    <a:pt x="890" y="1846"/>
                  </a:lnTo>
                  <a:lnTo>
                    <a:pt x="756" y="1309"/>
                  </a:lnTo>
                  <a:lnTo>
                    <a:pt x="1019" y="1821"/>
                  </a:lnTo>
                  <a:lnTo>
                    <a:pt x="1102" y="1805"/>
                  </a:lnTo>
                  <a:lnTo>
                    <a:pt x="1186" y="1792"/>
                  </a:lnTo>
                  <a:lnTo>
                    <a:pt x="1354" y="1769"/>
                  </a:lnTo>
                  <a:lnTo>
                    <a:pt x="1513" y="984"/>
                  </a:lnTo>
                  <a:lnTo>
                    <a:pt x="1513" y="1751"/>
                  </a:lnTo>
                  <a:lnTo>
                    <a:pt x="1571" y="1746"/>
                  </a:lnTo>
                  <a:lnTo>
                    <a:pt x="1873" y="1068"/>
                  </a:lnTo>
                  <a:lnTo>
                    <a:pt x="1753" y="1732"/>
                  </a:lnTo>
                  <a:lnTo>
                    <a:pt x="1866" y="1726"/>
                  </a:lnTo>
                  <a:lnTo>
                    <a:pt x="1981" y="1722"/>
                  </a:lnTo>
                  <a:lnTo>
                    <a:pt x="2209" y="1723"/>
                  </a:lnTo>
                  <a:lnTo>
                    <a:pt x="2413" y="1453"/>
                  </a:lnTo>
                  <a:lnTo>
                    <a:pt x="2443" y="1733"/>
                  </a:lnTo>
                  <a:lnTo>
                    <a:pt x="2701" y="1465"/>
                  </a:lnTo>
                  <a:lnTo>
                    <a:pt x="2614" y="1746"/>
                  </a:lnTo>
                  <a:lnTo>
                    <a:pt x="2764" y="1762"/>
                  </a:lnTo>
                  <a:lnTo>
                    <a:pt x="2915" y="1783"/>
                  </a:lnTo>
                  <a:lnTo>
                    <a:pt x="3064" y="1807"/>
                  </a:lnTo>
                  <a:lnTo>
                    <a:pt x="3215" y="1837"/>
                  </a:lnTo>
                  <a:lnTo>
                    <a:pt x="3230" y="1799"/>
                  </a:lnTo>
                  <a:lnTo>
                    <a:pt x="3248" y="1764"/>
                  </a:lnTo>
                  <a:lnTo>
                    <a:pt x="3269" y="1731"/>
                  </a:lnTo>
                  <a:lnTo>
                    <a:pt x="3292" y="1701"/>
                  </a:lnTo>
                  <a:lnTo>
                    <a:pt x="3316" y="1671"/>
                  </a:lnTo>
                  <a:lnTo>
                    <a:pt x="3343" y="1643"/>
                  </a:lnTo>
                  <a:lnTo>
                    <a:pt x="3372" y="1617"/>
                  </a:lnTo>
                  <a:lnTo>
                    <a:pt x="3404" y="1594"/>
                  </a:lnTo>
                  <a:lnTo>
                    <a:pt x="3437" y="1570"/>
                  </a:lnTo>
                  <a:lnTo>
                    <a:pt x="3473" y="1549"/>
                  </a:lnTo>
                  <a:lnTo>
                    <a:pt x="3510" y="1530"/>
                  </a:lnTo>
                  <a:lnTo>
                    <a:pt x="3551" y="1515"/>
                  </a:lnTo>
                  <a:lnTo>
                    <a:pt x="3593" y="1499"/>
                  </a:lnTo>
                  <a:lnTo>
                    <a:pt x="3637" y="1486"/>
                  </a:lnTo>
                  <a:lnTo>
                    <a:pt x="3684" y="1474"/>
                  </a:lnTo>
                  <a:lnTo>
                    <a:pt x="3733" y="1465"/>
                  </a:lnTo>
                  <a:lnTo>
                    <a:pt x="3253" y="1537"/>
                  </a:lnTo>
                  <a:lnTo>
                    <a:pt x="3269" y="1494"/>
                  </a:lnTo>
                  <a:lnTo>
                    <a:pt x="3288" y="1453"/>
                  </a:lnTo>
                  <a:lnTo>
                    <a:pt x="3332" y="1373"/>
                  </a:lnTo>
                  <a:lnTo>
                    <a:pt x="3384" y="1295"/>
                  </a:lnTo>
                  <a:lnTo>
                    <a:pt x="3412" y="1257"/>
                  </a:lnTo>
                  <a:lnTo>
                    <a:pt x="3444" y="1221"/>
                  </a:lnTo>
                  <a:lnTo>
                    <a:pt x="3510" y="1147"/>
                  </a:lnTo>
                  <a:lnTo>
                    <a:pt x="3545" y="1113"/>
                  </a:lnTo>
                  <a:lnTo>
                    <a:pt x="3584" y="1079"/>
                  </a:lnTo>
                  <a:lnTo>
                    <a:pt x="3624" y="1044"/>
                  </a:lnTo>
                  <a:lnTo>
                    <a:pt x="3667" y="1012"/>
                  </a:lnTo>
                  <a:lnTo>
                    <a:pt x="3757" y="948"/>
                  </a:lnTo>
                  <a:lnTo>
                    <a:pt x="3701" y="959"/>
                  </a:lnTo>
                  <a:lnTo>
                    <a:pt x="3646" y="972"/>
                  </a:lnTo>
                  <a:lnTo>
                    <a:pt x="3538" y="1007"/>
                  </a:lnTo>
                  <a:lnTo>
                    <a:pt x="3484" y="1027"/>
                  </a:lnTo>
                  <a:lnTo>
                    <a:pt x="3431" y="1050"/>
                  </a:lnTo>
                  <a:lnTo>
                    <a:pt x="3328" y="1104"/>
                  </a:lnTo>
                  <a:lnTo>
                    <a:pt x="3275" y="1132"/>
                  </a:lnTo>
                  <a:lnTo>
                    <a:pt x="3224" y="1164"/>
                  </a:lnTo>
                  <a:lnTo>
                    <a:pt x="3174" y="1199"/>
                  </a:lnTo>
                  <a:lnTo>
                    <a:pt x="3125" y="1236"/>
                  </a:lnTo>
                  <a:lnTo>
                    <a:pt x="3074" y="1273"/>
                  </a:lnTo>
                  <a:lnTo>
                    <a:pt x="3025" y="1315"/>
                  </a:lnTo>
                  <a:lnTo>
                    <a:pt x="2929" y="1405"/>
                  </a:lnTo>
                  <a:lnTo>
                    <a:pt x="2940" y="1336"/>
                  </a:lnTo>
                  <a:lnTo>
                    <a:pt x="2948" y="1300"/>
                  </a:lnTo>
                  <a:lnTo>
                    <a:pt x="2962" y="1266"/>
                  </a:lnTo>
                  <a:lnTo>
                    <a:pt x="2975" y="1230"/>
                  </a:lnTo>
                  <a:lnTo>
                    <a:pt x="2990" y="1197"/>
                  </a:lnTo>
                  <a:lnTo>
                    <a:pt x="3008" y="1162"/>
                  </a:lnTo>
                  <a:lnTo>
                    <a:pt x="3029" y="1128"/>
                  </a:lnTo>
                  <a:lnTo>
                    <a:pt x="3049" y="1092"/>
                  </a:lnTo>
                  <a:lnTo>
                    <a:pt x="3074" y="1059"/>
                  </a:lnTo>
                  <a:lnTo>
                    <a:pt x="3100" y="1023"/>
                  </a:lnTo>
                  <a:lnTo>
                    <a:pt x="3130" y="989"/>
                  </a:lnTo>
                  <a:lnTo>
                    <a:pt x="3160" y="953"/>
                  </a:lnTo>
                  <a:lnTo>
                    <a:pt x="3192" y="919"/>
                  </a:lnTo>
                  <a:lnTo>
                    <a:pt x="3265" y="852"/>
                  </a:lnTo>
                  <a:lnTo>
                    <a:pt x="3188" y="887"/>
                  </a:lnTo>
                  <a:lnTo>
                    <a:pt x="3114" y="931"/>
                  </a:lnTo>
                  <a:lnTo>
                    <a:pt x="3040" y="983"/>
                  </a:lnTo>
                  <a:lnTo>
                    <a:pt x="2965" y="1042"/>
                  </a:lnTo>
                  <a:lnTo>
                    <a:pt x="2888" y="1105"/>
                  </a:lnTo>
                  <a:lnTo>
                    <a:pt x="2814" y="1179"/>
                  </a:lnTo>
                  <a:lnTo>
                    <a:pt x="2740" y="1258"/>
                  </a:lnTo>
                  <a:lnTo>
                    <a:pt x="2665" y="1345"/>
                  </a:lnTo>
                  <a:lnTo>
                    <a:pt x="2833" y="924"/>
                  </a:lnTo>
                  <a:lnTo>
                    <a:pt x="2611" y="1092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559280" y="4292640"/>
              <a:ext cx="232560" cy="285840"/>
            </a:xfrm>
            <a:custGeom>
              <a:avLst/>
              <a:gdLst/>
              <a:ahLst/>
              <a:rect l="l" t="t" r="r" b="b"/>
              <a:pathLst>
                <a:path w="807" h="1101">
                  <a:moveTo>
                    <a:pt x="807" y="0"/>
                  </a:moveTo>
                  <a:lnTo>
                    <a:pt x="762" y="27"/>
                  </a:lnTo>
                  <a:lnTo>
                    <a:pt x="719" y="57"/>
                  </a:lnTo>
                  <a:lnTo>
                    <a:pt x="673" y="90"/>
                  </a:lnTo>
                  <a:lnTo>
                    <a:pt x="629" y="125"/>
                  </a:lnTo>
                  <a:lnTo>
                    <a:pt x="582" y="159"/>
                  </a:lnTo>
                  <a:lnTo>
                    <a:pt x="537" y="199"/>
                  </a:lnTo>
                  <a:lnTo>
                    <a:pt x="489" y="239"/>
                  </a:lnTo>
                  <a:lnTo>
                    <a:pt x="442" y="283"/>
                  </a:lnTo>
                  <a:lnTo>
                    <a:pt x="393" y="327"/>
                  </a:lnTo>
                  <a:lnTo>
                    <a:pt x="343" y="374"/>
                  </a:lnTo>
                  <a:lnTo>
                    <a:pt x="293" y="423"/>
                  </a:lnTo>
                  <a:lnTo>
                    <a:pt x="244" y="475"/>
                  </a:lnTo>
                  <a:lnTo>
                    <a:pt x="192" y="527"/>
                  </a:lnTo>
                  <a:lnTo>
                    <a:pt x="142" y="583"/>
                  </a:lnTo>
                  <a:lnTo>
                    <a:pt x="89" y="639"/>
                  </a:lnTo>
                  <a:lnTo>
                    <a:pt x="37" y="701"/>
                  </a:lnTo>
                  <a:lnTo>
                    <a:pt x="18" y="798"/>
                  </a:lnTo>
                  <a:lnTo>
                    <a:pt x="6" y="897"/>
                  </a:lnTo>
                  <a:lnTo>
                    <a:pt x="0" y="998"/>
                  </a:lnTo>
                  <a:lnTo>
                    <a:pt x="0" y="1101"/>
                  </a:lnTo>
                  <a:lnTo>
                    <a:pt x="807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68360" y="4588200"/>
              <a:ext cx="74520" cy="72360"/>
            </a:xfrm>
            <a:custGeom>
              <a:avLst/>
              <a:gdLst/>
              <a:ahLst/>
              <a:rect l="l" t="t" r="r" b="b"/>
              <a:pathLst>
                <a:path w="258" h="281">
                  <a:moveTo>
                    <a:pt x="171" y="281"/>
                  </a:moveTo>
                  <a:lnTo>
                    <a:pt x="258" y="0"/>
                  </a:lnTo>
                  <a:lnTo>
                    <a:pt x="0" y="268"/>
                  </a:lnTo>
                  <a:lnTo>
                    <a:pt x="171" y="281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60680" y="4654440"/>
              <a:ext cx="942120" cy="91080"/>
            </a:xfrm>
            <a:custGeom>
              <a:avLst/>
              <a:gdLst/>
              <a:ahLst/>
              <a:rect l="l" t="t" r="r" b="b"/>
              <a:pathLst>
                <a:path w="3265" h="351">
                  <a:moveTo>
                    <a:pt x="2278" y="24"/>
                  </a:moveTo>
                  <a:lnTo>
                    <a:pt x="2107" y="11"/>
                  </a:lnTo>
                  <a:lnTo>
                    <a:pt x="1990" y="5"/>
                  </a:lnTo>
                  <a:lnTo>
                    <a:pt x="1873" y="1"/>
                  </a:lnTo>
                  <a:lnTo>
                    <a:pt x="1645" y="0"/>
                  </a:lnTo>
                  <a:lnTo>
                    <a:pt x="1530" y="4"/>
                  </a:lnTo>
                  <a:lnTo>
                    <a:pt x="1417" y="10"/>
                  </a:lnTo>
                  <a:lnTo>
                    <a:pt x="1235" y="24"/>
                  </a:lnTo>
                  <a:lnTo>
                    <a:pt x="1177" y="29"/>
                  </a:lnTo>
                  <a:lnTo>
                    <a:pt x="1018" y="47"/>
                  </a:lnTo>
                  <a:lnTo>
                    <a:pt x="850" y="70"/>
                  </a:lnTo>
                  <a:lnTo>
                    <a:pt x="766" y="83"/>
                  </a:lnTo>
                  <a:lnTo>
                    <a:pt x="683" y="99"/>
                  </a:lnTo>
                  <a:lnTo>
                    <a:pt x="554" y="124"/>
                  </a:lnTo>
                  <a:lnTo>
                    <a:pt x="372" y="162"/>
                  </a:lnTo>
                  <a:lnTo>
                    <a:pt x="281" y="184"/>
                  </a:lnTo>
                  <a:lnTo>
                    <a:pt x="191" y="208"/>
                  </a:lnTo>
                  <a:lnTo>
                    <a:pt x="181" y="202"/>
                  </a:lnTo>
                  <a:lnTo>
                    <a:pt x="168" y="201"/>
                  </a:lnTo>
                  <a:lnTo>
                    <a:pt x="150" y="199"/>
                  </a:lnTo>
                  <a:lnTo>
                    <a:pt x="128" y="203"/>
                  </a:lnTo>
                  <a:lnTo>
                    <a:pt x="102" y="207"/>
                  </a:lnTo>
                  <a:lnTo>
                    <a:pt x="72" y="214"/>
                  </a:lnTo>
                  <a:lnTo>
                    <a:pt x="37" y="222"/>
                  </a:lnTo>
                  <a:lnTo>
                    <a:pt x="0" y="235"/>
                  </a:lnTo>
                  <a:lnTo>
                    <a:pt x="149" y="256"/>
                  </a:lnTo>
                  <a:lnTo>
                    <a:pt x="300" y="274"/>
                  </a:lnTo>
                  <a:lnTo>
                    <a:pt x="449" y="291"/>
                  </a:lnTo>
                  <a:lnTo>
                    <a:pt x="523" y="298"/>
                  </a:lnTo>
                  <a:lnTo>
                    <a:pt x="532" y="298"/>
                  </a:lnTo>
                  <a:lnTo>
                    <a:pt x="541" y="299"/>
                  </a:lnTo>
                  <a:lnTo>
                    <a:pt x="560" y="301"/>
                  </a:lnTo>
                  <a:lnTo>
                    <a:pt x="599" y="306"/>
                  </a:lnTo>
                  <a:lnTo>
                    <a:pt x="779" y="319"/>
                  </a:lnTo>
                  <a:lnTo>
                    <a:pt x="959" y="333"/>
                  </a:lnTo>
                  <a:lnTo>
                    <a:pt x="1105" y="339"/>
                  </a:lnTo>
                  <a:lnTo>
                    <a:pt x="1254" y="345"/>
                  </a:lnTo>
                  <a:lnTo>
                    <a:pt x="1400" y="348"/>
                  </a:lnTo>
                  <a:lnTo>
                    <a:pt x="1548" y="351"/>
                  </a:lnTo>
                  <a:lnTo>
                    <a:pt x="1620" y="349"/>
                  </a:lnTo>
                  <a:lnTo>
                    <a:pt x="1693" y="349"/>
                  </a:lnTo>
                  <a:lnTo>
                    <a:pt x="1840" y="347"/>
                  </a:lnTo>
                  <a:lnTo>
                    <a:pt x="1984" y="342"/>
                  </a:lnTo>
                  <a:lnTo>
                    <a:pt x="2056" y="339"/>
                  </a:lnTo>
                  <a:lnTo>
                    <a:pt x="2129" y="336"/>
                  </a:lnTo>
                  <a:lnTo>
                    <a:pt x="2272" y="327"/>
                  </a:lnTo>
                  <a:lnTo>
                    <a:pt x="2416" y="316"/>
                  </a:lnTo>
                  <a:lnTo>
                    <a:pt x="2557" y="303"/>
                  </a:lnTo>
                  <a:lnTo>
                    <a:pt x="2701" y="289"/>
                  </a:lnTo>
                  <a:lnTo>
                    <a:pt x="2771" y="280"/>
                  </a:lnTo>
                  <a:lnTo>
                    <a:pt x="2806" y="275"/>
                  </a:lnTo>
                  <a:lnTo>
                    <a:pt x="2842" y="271"/>
                  </a:lnTo>
                  <a:lnTo>
                    <a:pt x="2983" y="253"/>
                  </a:lnTo>
                  <a:lnTo>
                    <a:pt x="3053" y="243"/>
                  </a:lnTo>
                  <a:lnTo>
                    <a:pt x="3124" y="233"/>
                  </a:lnTo>
                  <a:lnTo>
                    <a:pt x="3265" y="211"/>
                  </a:lnTo>
                  <a:lnTo>
                    <a:pt x="3168" y="184"/>
                  </a:lnTo>
                  <a:lnTo>
                    <a:pt x="3072" y="160"/>
                  </a:lnTo>
                  <a:lnTo>
                    <a:pt x="2975" y="136"/>
                  </a:lnTo>
                  <a:lnTo>
                    <a:pt x="2879" y="115"/>
                  </a:lnTo>
                  <a:lnTo>
                    <a:pt x="2728" y="85"/>
                  </a:lnTo>
                  <a:lnTo>
                    <a:pt x="2579" y="61"/>
                  </a:lnTo>
                  <a:lnTo>
                    <a:pt x="2428" y="40"/>
                  </a:lnTo>
                  <a:lnTo>
                    <a:pt x="2278" y="24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01040" y="4584960"/>
              <a:ext cx="67320" cy="72360"/>
            </a:xfrm>
            <a:custGeom>
              <a:avLst/>
              <a:gdLst/>
              <a:ahLst/>
              <a:rect l="l" t="t" r="r" b="b"/>
              <a:pathLst>
                <a:path w="234" h="280">
                  <a:moveTo>
                    <a:pt x="234" y="280"/>
                  </a:moveTo>
                  <a:lnTo>
                    <a:pt x="204" y="0"/>
                  </a:lnTo>
                  <a:lnTo>
                    <a:pt x="0" y="270"/>
                  </a:lnTo>
                  <a:lnTo>
                    <a:pt x="117" y="274"/>
                  </a:lnTo>
                  <a:lnTo>
                    <a:pt x="234" y="28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81640" y="4547520"/>
              <a:ext cx="75960" cy="139320"/>
            </a:xfrm>
            <a:custGeom>
              <a:avLst/>
              <a:gdLst/>
              <a:ahLst/>
              <a:rect l="l" t="t" r="r" b="b"/>
              <a:pathLst>
                <a:path w="263" h="537">
                  <a:moveTo>
                    <a:pt x="134" y="537"/>
                  </a:moveTo>
                  <a:lnTo>
                    <a:pt x="263" y="512"/>
                  </a:lnTo>
                  <a:lnTo>
                    <a:pt x="0" y="0"/>
                  </a:lnTo>
                  <a:lnTo>
                    <a:pt x="134" y="53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54080" y="4462560"/>
              <a:ext cx="45720" cy="203760"/>
            </a:xfrm>
            <a:custGeom>
              <a:avLst/>
              <a:gdLst/>
              <a:ahLst/>
              <a:rect l="l" t="t" r="r" b="b"/>
              <a:pathLst>
                <a:path w="159" h="785">
                  <a:moveTo>
                    <a:pt x="0" y="785"/>
                  </a:moveTo>
                  <a:lnTo>
                    <a:pt x="159" y="767"/>
                  </a:lnTo>
                  <a:lnTo>
                    <a:pt x="159" y="0"/>
                  </a:lnTo>
                  <a:lnTo>
                    <a:pt x="0" y="785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7440" y="4484520"/>
              <a:ext cx="86400" cy="175680"/>
            </a:xfrm>
            <a:custGeom>
              <a:avLst/>
              <a:gdLst/>
              <a:ahLst/>
              <a:rect l="l" t="t" r="r" b="b"/>
              <a:pathLst>
                <a:path w="302" h="678">
                  <a:moveTo>
                    <a:pt x="0" y="678"/>
                  </a:moveTo>
                  <a:lnTo>
                    <a:pt x="182" y="664"/>
                  </a:lnTo>
                  <a:lnTo>
                    <a:pt x="302" y="0"/>
                  </a:lnTo>
                  <a:lnTo>
                    <a:pt x="0" y="678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71200" y="4278600"/>
              <a:ext cx="152280" cy="334080"/>
            </a:xfrm>
            <a:custGeom>
              <a:avLst/>
              <a:gdLst/>
              <a:ahLst/>
              <a:rect l="l" t="t" r="r" b="b"/>
              <a:pathLst>
                <a:path w="529" h="1286">
                  <a:moveTo>
                    <a:pt x="458" y="1286"/>
                  </a:moveTo>
                  <a:lnTo>
                    <a:pt x="473" y="1168"/>
                  </a:lnTo>
                  <a:lnTo>
                    <a:pt x="491" y="1055"/>
                  </a:lnTo>
                  <a:lnTo>
                    <a:pt x="509" y="946"/>
                  </a:lnTo>
                  <a:lnTo>
                    <a:pt x="529" y="842"/>
                  </a:lnTo>
                  <a:lnTo>
                    <a:pt x="495" y="763"/>
                  </a:lnTo>
                  <a:lnTo>
                    <a:pt x="462" y="689"/>
                  </a:lnTo>
                  <a:lnTo>
                    <a:pt x="428" y="618"/>
                  </a:lnTo>
                  <a:lnTo>
                    <a:pt x="396" y="551"/>
                  </a:lnTo>
                  <a:lnTo>
                    <a:pt x="362" y="486"/>
                  </a:lnTo>
                  <a:lnTo>
                    <a:pt x="329" y="425"/>
                  </a:lnTo>
                  <a:lnTo>
                    <a:pt x="295" y="367"/>
                  </a:lnTo>
                  <a:lnTo>
                    <a:pt x="264" y="313"/>
                  </a:lnTo>
                  <a:lnTo>
                    <a:pt x="230" y="262"/>
                  </a:lnTo>
                  <a:lnTo>
                    <a:pt x="197" y="214"/>
                  </a:lnTo>
                  <a:lnTo>
                    <a:pt x="163" y="169"/>
                  </a:lnTo>
                  <a:lnTo>
                    <a:pt x="132" y="130"/>
                  </a:lnTo>
                  <a:lnTo>
                    <a:pt x="98" y="91"/>
                  </a:lnTo>
                  <a:lnTo>
                    <a:pt x="65" y="58"/>
                  </a:lnTo>
                  <a:lnTo>
                    <a:pt x="31" y="26"/>
                  </a:lnTo>
                  <a:lnTo>
                    <a:pt x="0" y="0"/>
                  </a:lnTo>
                  <a:lnTo>
                    <a:pt x="42" y="79"/>
                  </a:lnTo>
                  <a:lnTo>
                    <a:pt x="83" y="161"/>
                  </a:lnTo>
                  <a:lnTo>
                    <a:pt x="122" y="240"/>
                  </a:lnTo>
                  <a:lnTo>
                    <a:pt x="159" y="322"/>
                  </a:lnTo>
                  <a:lnTo>
                    <a:pt x="194" y="401"/>
                  </a:lnTo>
                  <a:lnTo>
                    <a:pt x="228" y="482"/>
                  </a:lnTo>
                  <a:lnTo>
                    <a:pt x="260" y="562"/>
                  </a:lnTo>
                  <a:lnTo>
                    <a:pt x="290" y="643"/>
                  </a:lnTo>
                  <a:lnTo>
                    <a:pt x="318" y="722"/>
                  </a:lnTo>
                  <a:lnTo>
                    <a:pt x="343" y="804"/>
                  </a:lnTo>
                  <a:lnTo>
                    <a:pt x="367" y="883"/>
                  </a:lnTo>
                  <a:lnTo>
                    <a:pt x="390" y="965"/>
                  </a:lnTo>
                  <a:lnTo>
                    <a:pt x="409" y="1044"/>
                  </a:lnTo>
                  <a:lnTo>
                    <a:pt x="427" y="1126"/>
                  </a:lnTo>
                  <a:lnTo>
                    <a:pt x="443" y="1205"/>
                  </a:lnTo>
                  <a:lnTo>
                    <a:pt x="458" y="1286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70800" y="4266360"/>
              <a:ext cx="274320" cy="224280"/>
            </a:xfrm>
            <a:custGeom>
              <a:avLst/>
              <a:gdLst/>
              <a:ahLst/>
              <a:rect l="l" t="t" r="r" b="b"/>
              <a:pathLst>
                <a:path w="953" h="864">
                  <a:moveTo>
                    <a:pt x="0" y="801"/>
                  </a:moveTo>
                  <a:lnTo>
                    <a:pt x="52" y="739"/>
                  </a:lnTo>
                  <a:lnTo>
                    <a:pt x="105" y="683"/>
                  </a:lnTo>
                  <a:lnTo>
                    <a:pt x="155" y="627"/>
                  </a:lnTo>
                  <a:lnTo>
                    <a:pt x="207" y="575"/>
                  </a:lnTo>
                  <a:lnTo>
                    <a:pt x="256" y="523"/>
                  </a:lnTo>
                  <a:lnTo>
                    <a:pt x="306" y="474"/>
                  </a:lnTo>
                  <a:lnTo>
                    <a:pt x="356" y="427"/>
                  </a:lnTo>
                  <a:lnTo>
                    <a:pt x="405" y="383"/>
                  </a:lnTo>
                  <a:lnTo>
                    <a:pt x="452" y="339"/>
                  </a:lnTo>
                  <a:lnTo>
                    <a:pt x="500" y="299"/>
                  </a:lnTo>
                  <a:lnTo>
                    <a:pt x="545" y="259"/>
                  </a:lnTo>
                  <a:lnTo>
                    <a:pt x="592" y="225"/>
                  </a:lnTo>
                  <a:lnTo>
                    <a:pt x="636" y="190"/>
                  </a:lnTo>
                  <a:lnTo>
                    <a:pt x="682" y="157"/>
                  </a:lnTo>
                  <a:lnTo>
                    <a:pt x="725" y="127"/>
                  </a:lnTo>
                  <a:lnTo>
                    <a:pt x="770" y="100"/>
                  </a:lnTo>
                  <a:lnTo>
                    <a:pt x="815" y="70"/>
                  </a:lnTo>
                  <a:lnTo>
                    <a:pt x="862" y="45"/>
                  </a:lnTo>
                  <a:lnTo>
                    <a:pt x="908" y="21"/>
                  </a:lnTo>
                  <a:lnTo>
                    <a:pt x="953" y="0"/>
                  </a:lnTo>
                  <a:lnTo>
                    <a:pt x="894" y="55"/>
                  </a:lnTo>
                  <a:lnTo>
                    <a:pt x="840" y="112"/>
                  </a:lnTo>
                  <a:lnTo>
                    <a:pt x="790" y="167"/>
                  </a:lnTo>
                  <a:lnTo>
                    <a:pt x="746" y="223"/>
                  </a:lnTo>
                  <a:lnTo>
                    <a:pt x="702" y="279"/>
                  </a:lnTo>
                  <a:lnTo>
                    <a:pt x="665" y="334"/>
                  </a:lnTo>
                  <a:lnTo>
                    <a:pt x="647" y="360"/>
                  </a:lnTo>
                  <a:lnTo>
                    <a:pt x="632" y="388"/>
                  </a:lnTo>
                  <a:lnTo>
                    <a:pt x="603" y="443"/>
                  </a:lnTo>
                  <a:lnTo>
                    <a:pt x="576" y="496"/>
                  </a:lnTo>
                  <a:lnTo>
                    <a:pt x="564" y="522"/>
                  </a:lnTo>
                  <a:lnTo>
                    <a:pt x="555" y="550"/>
                  </a:lnTo>
                  <a:lnTo>
                    <a:pt x="537" y="603"/>
                  </a:lnTo>
                  <a:lnTo>
                    <a:pt x="524" y="655"/>
                  </a:lnTo>
                  <a:lnTo>
                    <a:pt x="513" y="707"/>
                  </a:lnTo>
                  <a:lnTo>
                    <a:pt x="508" y="760"/>
                  </a:lnTo>
                  <a:lnTo>
                    <a:pt x="506" y="785"/>
                  </a:lnTo>
                  <a:lnTo>
                    <a:pt x="506" y="811"/>
                  </a:lnTo>
                  <a:lnTo>
                    <a:pt x="509" y="864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16960" y="4428360"/>
              <a:ext cx="330840" cy="256320"/>
            </a:xfrm>
            <a:custGeom>
              <a:avLst/>
              <a:gdLst/>
              <a:ahLst/>
              <a:rect l="l" t="t" r="r" b="b"/>
              <a:pathLst>
                <a:path w="1146" h="985">
                  <a:moveTo>
                    <a:pt x="0" y="240"/>
                  </a:moveTo>
                  <a:lnTo>
                    <a:pt x="222" y="72"/>
                  </a:lnTo>
                  <a:lnTo>
                    <a:pt x="54" y="493"/>
                  </a:lnTo>
                  <a:lnTo>
                    <a:pt x="129" y="406"/>
                  </a:lnTo>
                  <a:lnTo>
                    <a:pt x="203" y="327"/>
                  </a:lnTo>
                  <a:lnTo>
                    <a:pt x="277" y="253"/>
                  </a:lnTo>
                  <a:lnTo>
                    <a:pt x="354" y="190"/>
                  </a:lnTo>
                  <a:lnTo>
                    <a:pt x="429" y="131"/>
                  </a:lnTo>
                  <a:lnTo>
                    <a:pt x="503" y="79"/>
                  </a:lnTo>
                  <a:lnTo>
                    <a:pt x="577" y="35"/>
                  </a:lnTo>
                  <a:lnTo>
                    <a:pt x="654" y="0"/>
                  </a:lnTo>
                  <a:lnTo>
                    <a:pt x="581" y="67"/>
                  </a:lnTo>
                  <a:lnTo>
                    <a:pt x="549" y="101"/>
                  </a:lnTo>
                  <a:lnTo>
                    <a:pt x="519" y="137"/>
                  </a:lnTo>
                  <a:lnTo>
                    <a:pt x="489" y="171"/>
                  </a:lnTo>
                  <a:lnTo>
                    <a:pt x="463" y="207"/>
                  </a:lnTo>
                  <a:lnTo>
                    <a:pt x="438" y="240"/>
                  </a:lnTo>
                  <a:lnTo>
                    <a:pt x="418" y="276"/>
                  </a:lnTo>
                  <a:lnTo>
                    <a:pt x="397" y="310"/>
                  </a:lnTo>
                  <a:lnTo>
                    <a:pt x="379" y="345"/>
                  </a:lnTo>
                  <a:lnTo>
                    <a:pt x="364" y="378"/>
                  </a:lnTo>
                  <a:lnTo>
                    <a:pt x="351" y="414"/>
                  </a:lnTo>
                  <a:lnTo>
                    <a:pt x="337" y="448"/>
                  </a:lnTo>
                  <a:lnTo>
                    <a:pt x="329" y="484"/>
                  </a:lnTo>
                  <a:lnTo>
                    <a:pt x="318" y="553"/>
                  </a:lnTo>
                  <a:lnTo>
                    <a:pt x="414" y="463"/>
                  </a:lnTo>
                  <a:lnTo>
                    <a:pt x="463" y="421"/>
                  </a:lnTo>
                  <a:lnTo>
                    <a:pt x="514" y="384"/>
                  </a:lnTo>
                  <a:lnTo>
                    <a:pt x="563" y="347"/>
                  </a:lnTo>
                  <a:lnTo>
                    <a:pt x="613" y="312"/>
                  </a:lnTo>
                  <a:lnTo>
                    <a:pt x="664" y="280"/>
                  </a:lnTo>
                  <a:lnTo>
                    <a:pt x="717" y="252"/>
                  </a:lnTo>
                  <a:lnTo>
                    <a:pt x="820" y="198"/>
                  </a:lnTo>
                  <a:lnTo>
                    <a:pt x="873" y="175"/>
                  </a:lnTo>
                  <a:lnTo>
                    <a:pt x="927" y="155"/>
                  </a:lnTo>
                  <a:lnTo>
                    <a:pt x="1035" y="120"/>
                  </a:lnTo>
                  <a:lnTo>
                    <a:pt x="1090" y="107"/>
                  </a:lnTo>
                  <a:lnTo>
                    <a:pt x="1146" y="96"/>
                  </a:lnTo>
                  <a:lnTo>
                    <a:pt x="1056" y="160"/>
                  </a:lnTo>
                  <a:lnTo>
                    <a:pt x="1013" y="192"/>
                  </a:lnTo>
                  <a:lnTo>
                    <a:pt x="973" y="227"/>
                  </a:lnTo>
                  <a:lnTo>
                    <a:pt x="934" y="261"/>
                  </a:lnTo>
                  <a:lnTo>
                    <a:pt x="899" y="295"/>
                  </a:lnTo>
                  <a:lnTo>
                    <a:pt x="833" y="369"/>
                  </a:lnTo>
                  <a:lnTo>
                    <a:pt x="801" y="405"/>
                  </a:lnTo>
                  <a:lnTo>
                    <a:pt x="773" y="443"/>
                  </a:lnTo>
                  <a:lnTo>
                    <a:pt x="721" y="521"/>
                  </a:lnTo>
                  <a:lnTo>
                    <a:pt x="677" y="601"/>
                  </a:lnTo>
                  <a:lnTo>
                    <a:pt x="658" y="642"/>
                  </a:lnTo>
                  <a:lnTo>
                    <a:pt x="642" y="685"/>
                  </a:lnTo>
                  <a:lnTo>
                    <a:pt x="1122" y="613"/>
                  </a:lnTo>
                  <a:lnTo>
                    <a:pt x="1073" y="622"/>
                  </a:lnTo>
                  <a:lnTo>
                    <a:pt x="1026" y="634"/>
                  </a:lnTo>
                  <a:lnTo>
                    <a:pt x="982" y="647"/>
                  </a:lnTo>
                  <a:lnTo>
                    <a:pt x="940" y="663"/>
                  </a:lnTo>
                  <a:lnTo>
                    <a:pt x="899" y="678"/>
                  </a:lnTo>
                  <a:lnTo>
                    <a:pt x="862" y="697"/>
                  </a:lnTo>
                  <a:lnTo>
                    <a:pt x="826" y="718"/>
                  </a:lnTo>
                  <a:lnTo>
                    <a:pt x="793" y="742"/>
                  </a:lnTo>
                  <a:lnTo>
                    <a:pt x="761" y="765"/>
                  </a:lnTo>
                  <a:lnTo>
                    <a:pt x="732" y="791"/>
                  </a:lnTo>
                  <a:lnTo>
                    <a:pt x="705" y="819"/>
                  </a:lnTo>
                  <a:lnTo>
                    <a:pt x="681" y="849"/>
                  </a:lnTo>
                  <a:lnTo>
                    <a:pt x="658" y="879"/>
                  </a:lnTo>
                  <a:lnTo>
                    <a:pt x="637" y="912"/>
                  </a:lnTo>
                  <a:lnTo>
                    <a:pt x="619" y="947"/>
                  </a:lnTo>
                  <a:lnTo>
                    <a:pt x="604" y="985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23840" y="4206960"/>
              <a:ext cx="335880" cy="290520"/>
            </a:xfrm>
            <a:custGeom>
              <a:avLst/>
              <a:gdLst/>
              <a:ahLst/>
              <a:rect l="l" t="t" r="r" b="b"/>
              <a:pathLst>
                <a:path w="1165" h="1117">
                  <a:moveTo>
                    <a:pt x="0" y="1117"/>
                  </a:moveTo>
                  <a:lnTo>
                    <a:pt x="19" y="1020"/>
                  </a:lnTo>
                  <a:lnTo>
                    <a:pt x="42" y="929"/>
                  </a:lnTo>
                  <a:lnTo>
                    <a:pt x="65" y="840"/>
                  </a:lnTo>
                  <a:lnTo>
                    <a:pt x="90" y="757"/>
                  </a:lnTo>
                  <a:lnTo>
                    <a:pt x="115" y="677"/>
                  </a:lnTo>
                  <a:lnTo>
                    <a:pt x="143" y="601"/>
                  </a:lnTo>
                  <a:lnTo>
                    <a:pt x="172" y="529"/>
                  </a:lnTo>
                  <a:lnTo>
                    <a:pt x="203" y="463"/>
                  </a:lnTo>
                  <a:lnTo>
                    <a:pt x="233" y="399"/>
                  </a:lnTo>
                  <a:lnTo>
                    <a:pt x="266" y="340"/>
                  </a:lnTo>
                  <a:lnTo>
                    <a:pt x="300" y="285"/>
                  </a:lnTo>
                  <a:lnTo>
                    <a:pt x="336" y="234"/>
                  </a:lnTo>
                  <a:lnTo>
                    <a:pt x="372" y="186"/>
                  </a:lnTo>
                  <a:lnTo>
                    <a:pt x="412" y="144"/>
                  </a:lnTo>
                  <a:lnTo>
                    <a:pt x="451" y="106"/>
                  </a:lnTo>
                  <a:lnTo>
                    <a:pt x="493" y="72"/>
                  </a:lnTo>
                  <a:lnTo>
                    <a:pt x="467" y="127"/>
                  </a:lnTo>
                  <a:lnTo>
                    <a:pt x="444" y="181"/>
                  </a:lnTo>
                  <a:lnTo>
                    <a:pt x="421" y="234"/>
                  </a:lnTo>
                  <a:lnTo>
                    <a:pt x="403" y="287"/>
                  </a:lnTo>
                  <a:lnTo>
                    <a:pt x="385" y="337"/>
                  </a:lnTo>
                  <a:lnTo>
                    <a:pt x="371" y="387"/>
                  </a:lnTo>
                  <a:lnTo>
                    <a:pt x="358" y="435"/>
                  </a:lnTo>
                  <a:lnTo>
                    <a:pt x="348" y="481"/>
                  </a:lnTo>
                  <a:lnTo>
                    <a:pt x="338" y="526"/>
                  </a:lnTo>
                  <a:lnTo>
                    <a:pt x="332" y="569"/>
                  </a:lnTo>
                  <a:lnTo>
                    <a:pt x="326" y="611"/>
                  </a:lnTo>
                  <a:lnTo>
                    <a:pt x="325" y="653"/>
                  </a:lnTo>
                  <a:lnTo>
                    <a:pt x="324" y="693"/>
                  </a:lnTo>
                  <a:lnTo>
                    <a:pt x="326" y="731"/>
                  </a:lnTo>
                  <a:lnTo>
                    <a:pt x="330" y="768"/>
                  </a:lnTo>
                  <a:lnTo>
                    <a:pt x="337" y="804"/>
                  </a:lnTo>
                  <a:lnTo>
                    <a:pt x="373" y="735"/>
                  </a:lnTo>
                  <a:lnTo>
                    <a:pt x="409" y="669"/>
                  </a:lnTo>
                  <a:lnTo>
                    <a:pt x="445" y="605"/>
                  </a:lnTo>
                  <a:lnTo>
                    <a:pt x="484" y="544"/>
                  </a:lnTo>
                  <a:lnTo>
                    <a:pt x="520" y="485"/>
                  </a:lnTo>
                  <a:lnTo>
                    <a:pt x="556" y="429"/>
                  </a:lnTo>
                  <a:lnTo>
                    <a:pt x="592" y="375"/>
                  </a:lnTo>
                  <a:lnTo>
                    <a:pt x="629" y="323"/>
                  </a:lnTo>
                  <a:lnTo>
                    <a:pt x="664" y="274"/>
                  </a:lnTo>
                  <a:lnTo>
                    <a:pt x="700" y="227"/>
                  </a:lnTo>
                  <a:lnTo>
                    <a:pt x="736" y="183"/>
                  </a:lnTo>
                  <a:lnTo>
                    <a:pt x="772" y="142"/>
                  </a:lnTo>
                  <a:lnTo>
                    <a:pt x="805" y="102"/>
                  </a:lnTo>
                  <a:lnTo>
                    <a:pt x="841" y="65"/>
                  </a:lnTo>
                  <a:lnTo>
                    <a:pt x="877" y="30"/>
                  </a:lnTo>
                  <a:lnTo>
                    <a:pt x="913" y="0"/>
                  </a:lnTo>
                  <a:lnTo>
                    <a:pt x="874" y="53"/>
                  </a:lnTo>
                  <a:lnTo>
                    <a:pt x="839" y="108"/>
                  </a:lnTo>
                  <a:lnTo>
                    <a:pt x="806" y="163"/>
                  </a:lnTo>
                  <a:lnTo>
                    <a:pt x="776" y="219"/>
                  </a:lnTo>
                  <a:lnTo>
                    <a:pt x="749" y="271"/>
                  </a:lnTo>
                  <a:lnTo>
                    <a:pt x="725" y="327"/>
                  </a:lnTo>
                  <a:lnTo>
                    <a:pt x="702" y="382"/>
                  </a:lnTo>
                  <a:lnTo>
                    <a:pt x="684" y="437"/>
                  </a:lnTo>
                  <a:lnTo>
                    <a:pt x="666" y="490"/>
                  </a:lnTo>
                  <a:lnTo>
                    <a:pt x="653" y="545"/>
                  </a:lnTo>
                  <a:lnTo>
                    <a:pt x="641" y="600"/>
                  </a:lnTo>
                  <a:lnTo>
                    <a:pt x="632" y="655"/>
                  </a:lnTo>
                  <a:lnTo>
                    <a:pt x="626" y="711"/>
                  </a:lnTo>
                  <a:lnTo>
                    <a:pt x="623" y="766"/>
                  </a:lnTo>
                  <a:lnTo>
                    <a:pt x="622" y="821"/>
                  </a:lnTo>
                  <a:lnTo>
                    <a:pt x="625" y="876"/>
                  </a:lnTo>
                  <a:lnTo>
                    <a:pt x="1165" y="348"/>
                  </a:lnTo>
                  <a:lnTo>
                    <a:pt x="1108" y="427"/>
                  </a:lnTo>
                  <a:lnTo>
                    <a:pt x="1057" y="510"/>
                  </a:lnTo>
                  <a:lnTo>
                    <a:pt x="1010" y="593"/>
                  </a:lnTo>
                  <a:lnTo>
                    <a:pt x="970" y="678"/>
                  </a:lnTo>
                  <a:lnTo>
                    <a:pt x="934" y="763"/>
                  </a:lnTo>
                  <a:lnTo>
                    <a:pt x="902" y="851"/>
                  </a:lnTo>
                  <a:lnTo>
                    <a:pt x="876" y="939"/>
                  </a:lnTo>
                  <a:lnTo>
                    <a:pt x="854" y="1029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63480" y="4253760"/>
              <a:ext cx="928080" cy="455040"/>
            </a:xfrm>
            <a:custGeom>
              <a:avLst/>
              <a:gdLst/>
              <a:ahLst/>
              <a:rect l="l" t="t" r="r" b="b"/>
              <a:pathLst>
                <a:path w="3215" h="1750">
                  <a:moveTo>
                    <a:pt x="1248" y="937"/>
                  </a:moveTo>
                  <a:lnTo>
                    <a:pt x="1214" y="858"/>
                  </a:lnTo>
                  <a:lnTo>
                    <a:pt x="1181" y="784"/>
                  </a:lnTo>
                  <a:lnTo>
                    <a:pt x="1147" y="713"/>
                  </a:lnTo>
                  <a:lnTo>
                    <a:pt x="1115" y="646"/>
                  </a:lnTo>
                  <a:lnTo>
                    <a:pt x="1081" y="581"/>
                  </a:lnTo>
                  <a:lnTo>
                    <a:pt x="1048" y="520"/>
                  </a:lnTo>
                  <a:lnTo>
                    <a:pt x="1014" y="462"/>
                  </a:lnTo>
                  <a:lnTo>
                    <a:pt x="983" y="408"/>
                  </a:lnTo>
                  <a:lnTo>
                    <a:pt x="949" y="357"/>
                  </a:lnTo>
                  <a:lnTo>
                    <a:pt x="916" y="309"/>
                  </a:lnTo>
                  <a:lnTo>
                    <a:pt x="882" y="264"/>
                  </a:lnTo>
                  <a:lnTo>
                    <a:pt x="851" y="225"/>
                  </a:lnTo>
                  <a:lnTo>
                    <a:pt x="817" y="186"/>
                  </a:lnTo>
                  <a:lnTo>
                    <a:pt x="784" y="153"/>
                  </a:lnTo>
                  <a:lnTo>
                    <a:pt x="750" y="121"/>
                  </a:lnTo>
                  <a:lnTo>
                    <a:pt x="719" y="95"/>
                  </a:lnTo>
                  <a:lnTo>
                    <a:pt x="671" y="60"/>
                  </a:lnTo>
                  <a:lnTo>
                    <a:pt x="623" y="34"/>
                  </a:lnTo>
                  <a:lnTo>
                    <a:pt x="575" y="13"/>
                  </a:lnTo>
                  <a:lnTo>
                    <a:pt x="528" y="0"/>
                  </a:lnTo>
                  <a:lnTo>
                    <a:pt x="571" y="72"/>
                  </a:lnTo>
                  <a:lnTo>
                    <a:pt x="613" y="144"/>
                  </a:lnTo>
                  <a:lnTo>
                    <a:pt x="650" y="214"/>
                  </a:lnTo>
                  <a:lnTo>
                    <a:pt x="688" y="283"/>
                  </a:lnTo>
                  <a:lnTo>
                    <a:pt x="695" y="299"/>
                  </a:lnTo>
                  <a:lnTo>
                    <a:pt x="703" y="316"/>
                  </a:lnTo>
                  <a:lnTo>
                    <a:pt x="720" y="349"/>
                  </a:lnTo>
                  <a:lnTo>
                    <a:pt x="734" y="382"/>
                  </a:lnTo>
                  <a:lnTo>
                    <a:pt x="750" y="415"/>
                  </a:lnTo>
                  <a:lnTo>
                    <a:pt x="776" y="480"/>
                  </a:lnTo>
                  <a:lnTo>
                    <a:pt x="788" y="511"/>
                  </a:lnTo>
                  <a:lnTo>
                    <a:pt x="791" y="519"/>
                  </a:lnTo>
                  <a:lnTo>
                    <a:pt x="794" y="527"/>
                  </a:lnTo>
                  <a:lnTo>
                    <a:pt x="802" y="544"/>
                  </a:lnTo>
                  <a:lnTo>
                    <a:pt x="811" y="574"/>
                  </a:lnTo>
                  <a:lnTo>
                    <a:pt x="822" y="605"/>
                  </a:lnTo>
                  <a:lnTo>
                    <a:pt x="840" y="665"/>
                  </a:lnTo>
                  <a:lnTo>
                    <a:pt x="847" y="694"/>
                  </a:lnTo>
                  <a:lnTo>
                    <a:pt x="854" y="724"/>
                  </a:lnTo>
                  <a:lnTo>
                    <a:pt x="868" y="781"/>
                  </a:lnTo>
                  <a:lnTo>
                    <a:pt x="876" y="837"/>
                  </a:lnTo>
                  <a:lnTo>
                    <a:pt x="880" y="863"/>
                  </a:lnTo>
                  <a:lnTo>
                    <a:pt x="880" y="869"/>
                  </a:lnTo>
                  <a:lnTo>
                    <a:pt x="881" y="876"/>
                  </a:lnTo>
                  <a:lnTo>
                    <a:pt x="883" y="891"/>
                  </a:lnTo>
                  <a:lnTo>
                    <a:pt x="887" y="943"/>
                  </a:lnTo>
                  <a:lnTo>
                    <a:pt x="889" y="996"/>
                  </a:lnTo>
                  <a:lnTo>
                    <a:pt x="858" y="924"/>
                  </a:lnTo>
                  <a:lnTo>
                    <a:pt x="829" y="859"/>
                  </a:lnTo>
                  <a:lnTo>
                    <a:pt x="798" y="797"/>
                  </a:lnTo>
                  <a:lnTo>
                    <a:pt x="782" y="768"/>
                  </a:lnTo>
                  <a:lnTo>
                    <a:pt x="768" y="742"/>
                  </a:lnTo>
                  <a:lnTo>
                    <a:pt x="737" y="689"/>
                  </a:lnTo>
                  <a:lnTo>
                    <a:pt x="706" y="642"/>
                  </a:lnTo>
                  <a:lnTo>
                    <a:pt x="689" y="619"/>
                  </a:lnTo>
                  <a:lnTo>
                    <a:pt x="673" y="599"/>
                  </a:lnTo>
                  <a:lnTo>
                    <a:pt x="642" y="563"/>
                  </a:lnTo>
                  <a:lnTo>
                    <a:pt x="608" y="529"/>
                  </a:lnTo>
                  <a:lnTo>
                    <a:pt x="592" y="514"/>
                  </a:lnTo>
                  <a:lnTo>
                    <a:pt x="576" y="501"/>
                  </a:lnTo>
                  <a:lnTo>
                    <a:pt x="542" y="477"/>
                  </a:lnTo>
                  <a:lnTo>
                    <a:pt x="509" y="460"/>
                  </a:lnTo>
                  <a:lnTo>
                    <a:pt x="491" y="451"/>
                  </a:lnTo>
                  <a:lnTo>
                    <a:pt x="474" y="445"/>
                  </a:lnTo>
                  <a:lnTo>
                    <a:pt x="440" y="436"/>
                  </a:lnTo>
                  <a:lnTo>
                    <a:pt x="422" y="432"/>
                  </a:lnTo>
                  <a:lnTo>
                    <a:pt x="406" y="431"/>
                  </a:lnTo>
                  <a:lnTo>
                    <a:pt x="372" y="432"/>
                  </a:lnTo>
                  <a:lnTo>
                    <a:pt x="402" y="475"/>
                  </a:lnTo>
                  <a:lnTo>
                    <a:pt x="431" y="519"/>
                  </a:lnTo>
                  <a:lnTo>
                    <a:pt x="457" y="561"/>
                  </a:lnTo>
                  <a:lnTo>
                    <a:pt x="469" y="581"/>
                  </a:lnTo>
                  <a:lnTo>
                    <a:pt x="482" y="603"/>
                  </a:lnTo>
                  <a:lnTo>
                    <a:pt x="493" y="622"/>
                  </a:lnTo>
                  <a:lnTo>
                    <a:pt x="505" y="642"/>
                  </a:lnTo>
                  <a:lnTo>
                    <a:pt x="515" y="661"/>
                  </a:lnTo>
                  <a:lnTo>
                    <a:pt x="520" y="671"/>
                  </a:lnTo>
                  <a:lnTo>
                    <a:pt x="522" y="676"/>
                  </a:lnTo>
                  <a:lnTo>
                    <a:pt x="526" y="682"/>
                  </a:lnTo>
                  <a:lnTo>
                    <a:pt x="544" y="720"/>
                  </a:lnTo>
                  <a:lnTo>
                    <a:pt x="552" y="739"/>
                  </a:lnTo>
                  <a:lnTo>
                    <a:pt x="562" y="760"/>
                  </a:lnTo>
                  <a:lnTo>
                    <a:pt x="575" y="796"/>
                  </a:lnTo>
                  <a:lnTo>
                    <a:pt x="588" y="832"/>
                  </a:lnTo>
                  <a:lnTo>
                    <a:pt x="593" y="849"/>
                  </a:lnTo>
                  <a:lnTo>
                    <a:pt x="595" y="857"/>
                  </a:lnTo>
                  <a:lnTo>
                    <a:pt x="599" y="867"/>
                  </a:lnTo>
                  <a:lnTo>
                    <a:pt x="608" y="903"/>
                  </a:lnTo>
                  <a:lnTo>
                    <a:pt x="611" y="918"/>
                  </a:lnTo>
                  <a:lnTo>
                    <a:pt x="614" y="935"/>
                  </a:lnTo>
                  <a:lnTo>
                    <a:pt x="619" y="969"/>
                  </a:lnTo>
                  <a:lnTo>
                    <a:pt x="623" y="1000"/>
                  </a:lnTo>
                  <a:lnTo>
                    <a:pt x="623" y="1015"/>
                  </a:lnTo>
                  <a:lnTo>
                    <a:pt x="624" y="1032"/>
                  </a:lnTo>
                  <a:lnTo>
                    <a:pt x="547" y="990"/>
                  </a:lnTo>
                  <a:lnTo>
                    <a:pt x="509" y="971"/>
                  </a:lnTo>
                  <a:lnTo>
                    <a:pt x="472" y="955"/>
                  </a:lnTo>
                  <a:lnTo>
                    <a:pt x="432" y="940"/>
                  </a:lnTo>
                  <a:lnTo>
                    <a:pt x="394" y="928"/>
                  </a:lnTo>
                  <a:lnTo>
                    <a:pt x="317" y="907"/>
                  </a:lnTo>
                  <a:lnTo>
                    <a:pt x="238" y="894"/>
                  </a:lnTo>
                  <a:lnTo>
                    <a:pt x="198" y="889"/>
                  </a:lnTo>
                  <a:lnTo>
                    <a:pt x="160" y="888"/>
                  </a:lnTo>
                  <a:lnTo>
                    <a:pt x="119" y="887"/>
                  </a:lnTo>
                  <a:lnTo>
                    <a:pt x="79" y="889"/>
                  </a:lnTo>
                  <a:lnTo>
                    <a:pt x="0" y="900"/>
                  </a:lnTo>
                  <a:lnTo>
                    <a:pt x="44" y="922"/>
                  </a:lnTo>
                  <a:lnTo>
                    <a:pt x="88" y="943"/>
                  </a:lnTo>
                  <a:lnTo>
                    <a:pt x="130" y="965"/>
                  </a:lnTo>
                  <a:lnTo>
                    <a:pt x="170" y="989"/>
                  </a:lnTo>
                  <a:lnTo>
                    <a:pt x="208" y="1012"/>
                  </a:lnTo>
                  <a:lnTo>
                    <a:pt x="244" y="1036"/>
                  </a:lnTo>
                  <a:lnTo>
                    <a:pt x="278" y="1060"/>
                  </a:lnTo>
                  <a:lnTo>
                    <a:pt x="312" y="1084"/>
                  </a:lnTo>
                  <a:lnTo>
                    <a:pt x="342" y="1108"/>
                  </a:lnTo>
                  <a:lnTo>
                    <a:pt x="371" y="1132"/>
                  </a:lnTo>
                  <a:lnTo>
                    <a:pt x="397" y="1156"/>
                  </a:lnTo>
                  <a:lnTo>
                    <a:pt x="422" y="1182"/>
                  </a:lnTo>
                  <a:lnTo>
                    <a:pt x="445" y="1207"/>
                  </a:lnTo>
                  <a:lnTo>
                    <a:pt x="467" y="1234"/>
                  </a:lnTo>
                  <a:lnTo>
                    <a:pt x="486" y="1260"/>
                  </a:lnTo>
                  <a:lnTo>
                    <a:pt x="504" y="1288"/>
                  </a:lnTo>
                  <a:lnTo>
                    <a:pt x="518" y="1314"/>
                  </a:lnTo>
                  <a:lnTo>
                    <a:pt x="532" y="1341"/>
                  </a:lnTo>
                  <a:lnTo>
                    <a:pt x="544" y="1367"/>
                  </a:lnTo>
                  <a:lnTo>
                    <a:pt x="554" y="1396"/>
                  </a:lnTo>
                  <a:lnTo>
                    <a:pt x="562" y="1422"/>
                  </a:lnTo>
                  <a:lnTo>
                    <a:pt x="568" y="1451"/>
                  </a:lnTo>
                  <a:lnTo>
                    <a:pt x="571" y="1480"/>
                  </a:lnTo>
                  <a:lnTo>
                    <a:pt x="575" y="1509"/>
                  </a:lnTo>
                  <a:lnTo>
                    <a:pt x="575" y="1537"/>
                  </a:lnTo>
                  <a:lnTo>
                    <a:pt x="574" y="1566"/>
                  </a:lnTo>
                  <a:lnTo>
                    <a:pt x="570" y="1595"/>
                  </a:lnTo>
                  <a:lnTo>
                    <a:pt x="565" y="1626"/>
                  </a:lnTo>
                  <a:lnTo>
                    <a:pt x="558" y="1656"/>
                  </a:lnTo>
                  <a:lnTo>
                    <a:pt x="550" y="1687"/>
                  </a:lnTo>
                  <a:lnTo>
                    <a:pt x="539" y="1719"/>
                  </a:lnTo>
                  <a:lnTo>
                    <a:pt x="527" y="1750"/>
                  </a:lnTo>
                  <a:lnTo>
                    <a:pt x="617" y="1726"/>
                  </a:lnTo>
                  <a:lnTo>
                    <a:pt x="708" y="1704"/>
                  </a:lnTo>
                  <a:lnTo>
                    <a:pt x="890" y="1666"/>
                  </a:lnTo>
                  <a:lnTo>
                    <a:pt x="1019" y="1641"/>
                  </a:lnTo>
                  <a:lnTo>
                    <a:pt x="1102" y="1625"/>
                  </a:lnTo>
                  <a:lnTo>
                    <a:pt x="1186" y="1612"/>
                  </a:lnTo>
                  <a:lnTo>
                    <a:pt x="1354" y="1589"/>
                  </a:lnTo>
                  <a:lnTo>
                    <a:pt x="1513" y="1571"/>
                  </a:lnTo>
                  <a:lnTo>
                    <a:pt x="1571" y="1566"/>
                  </a:lnTo>
                  <a:lnTo>
                    <a:pt x="1753" y="1552"/>
                  </a:lnTo>
                  <a:lnTo>
                    <a:pt x="1866" y="1546"/>
                  </a:lnTo>
                  <a:lnTo>
                    <a:pt x="1981" y="1542"/>
                  </a:lnTo>
                  <a:lnTo>
                    <a:pt x="2209" y="1543"/>
                  </a:lnTo>
                  <a:lnTo>
                    <a:pt x="2326" y="1547"/>
                  </a:lnTo>
                  <a:lnTo>
                    <a:pt x="2443" y="1553"/>
                  </a:lnTo>
                  <a:lnTo>
                    <a:pt x="2614" y="1566"/>
                  </a:lnTo>
                  <a:lnTo>
                    <a:pt x="2764" y="1582"/>
                  </a:lnTo>
                  <a:lnTo>
                    <a:pt x="2915" y="1603"/>
                  </a:lnTo>
                  <a:lnTo>
                    <a:pt x="3064" y="1627"/>
                  </a:lnTo>
                  <a:lnTo>
                    <a:pt x="3215" y="1657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91920" y="4684680"/>
              <a:ext cx="110880" cy="24840"/>
            </a:xfrm>
            <a:custGeom>
              <a:avLst/>
              <a:gdLst/>
              <a:ahLst/>
              <a:rect l="l" t="t" r="r" b="b"/>
              <a:pathLst>
                <a:path w="386" h="96">
                  <a:moveTo>
                    <a:pt x="0" y="0"/>
                  </a:moveTo>
                  <a:lnTo>
                    <a:pt x="96" y="21"/>
                  </a:lnTo>
                  <a:lnTo>
                    <a:pt x="193" y="45"/>
                  </a:lnTo>
                  <a:lnTo>
                    <a:pt x="289" y="69"/>
                  </a:lnTo>
                  <a:lnTo>
                    <a:pt x="386" y="96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03320" y="4497480"/>
              <a:ext cx="20520" cy="115200"/>
            </a:xfrm>
            <a:custGeom>
              <a:avLst/>
              <a:gdLst/>
              <a:ahLst/>
              <a:rect l="l" t="t" r="r" b="b"/>
              <a:pathLst>
                <a:path w="71" h="444">
                  <a:moveTo>
                    <a:pt x="0" y="444"/>
                  </a:moveTo>
                  <a:lnTo>
                    <a:pt x="15" y="326"/>
                  </a:lnTo>
                  <a:lnTo>
                    <a:pt x="33" y="213"/>
                  </a:lnTo>
                  <a:lnTo>
                    <a:pt x="51" y="104"/>
                  </a:lnTo>
                  <a:lnTo>
                    <a:pt x="71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59280" y="4474440"/>
              <a:ext cx="11160" cy="104400"/>
            </a:xfrm>
            <a:custGeom>
              <a:avLst/>
              <a:gdLst/>
              <a:ahLst/>
              <a:rect l="l" t="t" r="r" b="b"/>
              <a:pathLst>
                <a:path w="37" h="400">
                  <a:moveTo>
                    <a:pt x="37" y="0"/>
                  </a:moveTo>
                  <a:lnTo>
                    <a:pt x="18" y="97"/>
                  </a:lnTo>
                  <a:lnTo>
                    <a:pt x="6" y="196"/>
                  </a:lnTo>
                  <a:lnTo>
                    <a:pt x="0" y="297"/>
                  </a:lnTo>
                  <a:lnTo>
                    <a:pt x="0" y="40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7652880" y="4490280"/>
              <a:ext cx="63720" cy="435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7696080" y="5562720"/>
            <a:ext cx="1295640" cy="1295280"/>
            <a:chOff x="7696080" y="5562720"/>
            <a:chExt cx="1295640" cy="129528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7772400" y="5638680"/>
              <a:ext cx="1174680" cy="8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7772400" y="6477120"/>
              <a:ext cx="11430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1200" spc="-1" strike="noStrike">
                  <a:solidFill>
                    <a:srgbClr val="000066"/>
                  </a:solidFill>
                  <a:latin typeface="Comic Sans MS"/>
                </a:rPr>
                <a:t>Mai depar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>
              <a:hlinkClick r:id="" action="ppaction://hlinkshowjump?jump=nextslide"/>
            </p:cNvPr>
            <p:cNvSpPr/>
            <p:nvPr/>
          </p:nvSpPr>
          <p:spPr>
            <a:xfrm>
              <a:off x="7696080" y="5562720"/>
              <a:ext cx="1295640" cy="1295280"/>
            </a:xfrm>
            <a:custGeom>
              <a:avLst/>
              <a:gdLst>
                <a:gd name="textAreaLeft" fmla="*/ 83880 w 1295640"/>
                <a:gd name="textAreaRight" fmla="*/ 1211760 w 1295640"/>
                <a:gd name="textAreaTop" fmla="*/ 83880 h 1295280"/>
                <a:gd name="textAreaBottom" fmla="*/ 1211400 h 1295280"/>
              </a:gdLst>
              <a:ahLst/>
              <a:rect l="textAreaLeft" t="textAreaTop" r="textAreaRight" b="textAreaBottom"/>
              <a:pathLst>
                <a:path w="21606" h="21600">
                  <a:moveTo>
                    <a:pt x="0" y="0"/>
                  </a:moveTo>
                  <a:lnTo>
                    <a:pt x="21606" y="0"/>
                  </a:lnTo>
                  <a:lnTo>
                    <a:pt x="21606" y="21600"/>
                  </a:lnTo>
                  <a:lnTo>
                    <a:pt x="0" y="21600"/>
                  </a:lnTo>
                  <a:close/>
                </a:path>
                <a:path fill="lightenLess" w="21606" h="21600">
                  <a:moveTo>
                    <a:pt x="0" y="0"/>
                  </a:moveTo>
                  <a:lnTo>
                    <a:pt x="21606" y="0"/>
                  </a:lnTo>
                  <a:lnTo>
                    <a:pt x="20206" y="1400"/>
                  </a:lnTo>
                  <a:lnTo>
                    <a:pt x="1400" y="1400"/>
                  </a:lnTo>
                  <a:close/>
                </a:path>
                <a:path fill="darken" w="21606" h="21600">
                  <a:moveTo>
                    <a:pt x="21606" y="0"/>
                  </a:moveTo>
                  <a:lnTo>
                    <a:pt x="21606" y="21600"/>
                  </a:lnTo>
                  <a:lnTo>
                    <a:pt x="20206" y="20200"/>
                  </a:lnTo>
                  <a:lnTo>
                    <a:pt x="20206" y="1400"/>
                  </a:lnTo>
                  <a:close/>
                </a:path>
                <a:path fill="darkenLess" w="21606" h="21600">
                  <a:moveTo>
                    <a:pt x="2160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6" y="20200"/>
                  </a:lnTo>
                  <a:close/>
                </a:path>
                <a:path fill="lighten" w="2160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5344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812000" y="587700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lastslide"/>
          </p:cNvPr>
          <p:cNvSpPr/>
          <p:nvPr/>
        </p:nvSpPr>
        <p:spPr>
          <a:xfrm>
            <a:off x="395280" y="537372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00000" y="5516640"/>
            <a:ext cx="1605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1692360" y="537372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lastslide"/>
          </p:cNvPr>
          <p:cNvSpPr/>
          <p:nvPr/>
        </p:nvSpPr>
        <p:spPr>
          <a:xfrm>
            <a:off x="3059280" y="537372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lastslide"/>
          </p:cNvPr>
          <p:cNvSpPr/>
          <p:nvPr/>
        </p:nvSpPr>
        <p:spPr>
          <a:xfrm>
            <a:off x="4500720" y="537372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lastslide"/>
          </p:cNvPr>
          <p:cNvSpPr/>
          <p:nvPr/>
        </p:nvSpPr>
        <p:spPr>
          <a:xfrm>
            <a:off x="5867280" y="5373720"/>
            <a:ext cx="115272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24000" y="5516640"/>
            <a:ext cx="160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492360" y="551664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932360" y="551664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227640" y="551664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60930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6165720"/>
            <a:ext cx="289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35280" y="6165720"/>
            <a:ext cx="288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68360" y="6165720"/>
            <a:ext cx="289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3640" y="6165720"/>
            <a:ext cx="216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92360" y="6165720"/>
            <a:ext cx="216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6165720"/>
            <a:ext cx="215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6165720"/>
            <a:ext cx="216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6165720"/>
            <a:ext cx="216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6165720"/>
            <a:ext cx="215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35640" y="6165720"/>
            <a:ext cx="216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0360" y="6165720"/>
            <a:ext cx="14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6165720"/>
            <a:ext cx="14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72360" y="6165720"/>
            <a:ext cx="14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88000" y="6165720"/>
            <a:ext cx="144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04000" y="6165720"/>
            <a:ext cx="14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784280" y="5411880"/>
            <a:ext cx="1325520" cy="1069560"/>
            <a:chOff x="7784280" y="5411880"/>
            <a:chExt cx="1325520" cy="1069560"/>
          </a:xfrm>
        </p:grpSpPr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 rot="2163600">
              <a:off x="7965360" y="5565960"/>
              <a:ext cx="609480" cy="81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4"/>
            <a:stretch/>
          </p:blipFill>
          <p:spPr>
            <a:xfrm rot="2163600">
              <a:off x="8448120" y="5510160"/>
              <a:ext cx="533160" cy="61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"/>
          <p:cNvGrpSpPr/>
          <p:nvPr/>
        </p:nvGrpSpPr>
        <p:grpSpPr>
          <a:xfrm>
            <a:off x="7618680" y="5074920"/>
            <a:ext cx="1081800" cy="1329840"/>
            <a:chOff x="7618680" y="5074920"/>
            <a:chExt cx="1081800" cy="1329840"/>
          </a:xfrm>
        </p:grpSpPr>
        <p:pic>
          <p:nvPicPr>
            <p:cNvPr id="146" name="" descr=""/>
            <p:cNvPicPr/>
            <p:nvPr/>
          </p:nvPicPr>
          <p:blipFill>
            <a:blip r:embed="rId5"/>
            <a:stretch/>
          </p:blipFill>
          <p:spPr>
            <a:xfrm rot="699000">
              <a:off x="7709040" y="5395680"/>
              <a:ext cx="609480" cy="9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6"/>
            <a:stretch/>
          </p:blipFill>
          <p:spPr>
            <a:xfrm rot="699000">
              <a:off x="8100360" y="5121000"/>
              <a:ext cx="533160" cy="71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"/>
          <p:cNvGrpSpPr/>
          <p:nvPr/>
        </p:nvGrpSpPr>
        <p:grpSpPr>
          <a:xfrm>
            <a:off x="7316640" y="5310000"/>
            <a:ext cx="881280" cy="1278360"/>
            <a:chOff x="7316640" y="5310000"/>
            <a:chExt cx="881280" cy="1278360"/>
          </a:xfrm>
        </p:grpSpPr>
        <p:pic>
          <p:nvPicPr>
            <p:cNvPr id="149" name="" descr=""/>
            <p:cNvPicPr/>
            <p:nvPr/>
          </p:nvPicPr>
          <p:blipFill>
            <a:blip r:embed="rId7"/>
            <a:stretch/>
          </p:blipFill>
          <p:spPr>
            <a:xfrm rot="19980600">
              <a:off x="7452360" y="5745240"/>
              <a:ext cx="609480" cy="74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8"/>
            <a:stretch/>
          </p:blipFill>
          <p:spPr>
            <a:xfrm rot="19980600">
              <a:off x="7566120" y="5400360"/>
              <a:ext cx="533160" cy="558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2954160" y="1557360"/>
            <a:ext cx="291312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835280" y="148428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411280" y="836640"/>
            <a:ext cx="48261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50000">
                      <a:srgbClr val="ff0000"/>
                    </a:gs>
                    <a:gs pos="100000">
                      <a:srgbClr val="ffccff"/>
                    </a:gs>
                  </a:gsLst>
                  <a:lin ang="8100000"/>
                </a:gradFill>
                <a:latin typeface="Arial Black"/>
              </a:rPr>
              <a:t>B R A V O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50000">
                    <a:srgbClr val="ff0000"/>
                  </a:gs>
                  <a:gs pos="100000">
                    <a:srgbClr val="ffccff"/>
                  </a:gs>
                </a:gsLst>
                <a:lin ang="81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50000">
                      <a:srgbClr val="ff0000"/>
                    </a:gs>
                    <a:gs pos="100000">
                      <a:srgbClr val="ffccff"/>
                    </a:gs>
                  </a:gsLst>
                  <a:lin ang="8100000"/>
                </a:gradFill>
                <a:latin typeface="Arial Black"/>
              </a:rPr>
              <a:t>C O R E C 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50000">
                    <a:srgbClr val="ff0000"/>
                  </a:gs>
                  <a:gs pos="100000">
                    <a:srgbClr val="ffcc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716360" y="3284640"/>
            <a:ext cx="2698920" cy="20635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696080" y="5105520"/>
            <a:ext cx="1054080" cy="10555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" action="ppaction://hlinkshowjump?jump=lastslide"/>
          </p:cNvPr>
          <p:cNvSpPr/>
          <p:nvPr/>
        </p:nvSpPr>
        <p:spPr>
          <a:xfrm>
            <a:off x="395280" y="537372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lastslide"/>
          </p:cNvPr>
          <p:cNvSpPr/>
          <p:nvPr/>
        </p:nvSpPr>
        <p:spPr>
          <a:xfrm>
            <a:off x="2050920" y="5373720"/>
            <a:ext cx="115272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3635280" y="5373720"/>
            <a:ext cx="115272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" action="ppaction://hlinkshowjump?jump=lastslide"/>
          </p:cNvPr>
          <p:cNvSpPr/>
          <p:nvPr/>
        </p:nvSpPr>
        <p:spPr>
          <a:xfrm>
            <a:off x="5219640" y="5373720"/>
            <a:ext cx="115272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lastslide"/>
          </p:cNvPr>
          <p:cNvSpPr/>
          <p:nvPr/>
        </p:nvSpPr>
        <p:spPr>
          <a:xfrm>
            <a:off x="6804000" y="5373720"/>
            <a:ext cx="115272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203640" y="1341360"/>
          <a:ext cx="2065320" cy="364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1341360"/>
                    <a:ext cx="2065320" cy="36435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6" name=""/>
          <p:cNvSpPr txBox="1"/>
          <p:nvPr/>
        </p:nvSpPr>
        <p:spPr>
          <a:xfrm>
            <a:off x="900000" y="5516640"/>
            <a:ext cx="1605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556000" y="5445000"/>
            <a:ext cx="1602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067280" y="5516640"/>
            <a:ext cx="21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651640" y="5516640"/>
            <a:ext cx="21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308720" y="551664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826920" y="6165720"/>
            <a:ext cx="289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24000" y="6165720"/>
            <a:ext cx="289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56000" y="6165720"/>
            <a:ext cx="288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08360" y="6165720"/>
            <a:ext cx="216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95640" y="6165720"/>
            <a:ext cx="2174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56000" y="6165720"/>
            <a:ext cx="2174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92720" y="6165720"/>
            <a:ext cx="2174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80000" y="6165720"/>
            <a:ext cx="2174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6165720"/>
            <a:ext cx="2174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56360" y="6165720"/>
            <a:ext cx="2174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6165720"/>
            <a:ext cx="1429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93080" y="6165720"/>
            <a:ext cx="1429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08720" y="6165720"/>
            <a:ext cx="1429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24720" y="6165720"/>
            <a:ext cx="1429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40720" y="6165720"/>
            <a:ext cx="1429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835280" y="148428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411280" y="836640"/>
            <a:ext cx="48261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50000">
                      <a:srgbClr val="ff0000"/>
                    </a:gs>
                    <a:gs pos="100000">
                      <a:srgbClr val="ffccff"/>
                    </a:gs>
                  </a:gsLst>
                  <a:lin ang="8100000"/>
                </a:gradFill>
                <a:latin typeface="Arial Black"/>
              </a:rPr>
              <a:t>B R A V O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50000">
                    <a:srgbClr val="ff0000"/>
                  </a:gs>
                  <a:gs pos="100000">
                    <a:srgbClr val="ffccff"/>
                  </a:gs>
                </a:gsLst>
                <a:lin ang="81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50000">
                      <a:srgbClr val="ff0000"/>
                    </a:gs>
                    <a:gs pos="100000">
                      <a:srgbClr val="ffccff"/>
                    </a:gs>
                  </a:gsLst>
                  <a:lin ang="8100000"/>
                </a:gradFill>
                <a:latin typeface="Arial Black"/>
              </a:rPr>
              <a:t>C O R E C T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50000">
                    <a:srgbClr val="ff0000"/>
                  </a:gs>
                  <a:gs pos="100000">
                    <a:srgbClr val="ffcc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716360" y="3284640"/>
            <a:ext cx="2698920" cy="20635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7696080" y="5105520"/>
            <a:ext cx="1054080" cy="1055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3326" t="4751" r="42523" b="7836"/>
          <a:stretch/>
        </p:blipFill>
        <p:spPr>
          <a:xfrm>
            <a:off x="3419640" y="2133720"/>
            <a:ext cx="2520720" cy="2590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684360" y="530064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>
            <a:hlinkClick r:id="" action="ppaction://hlinkshowjump?jump=lastslide"/>
          </p:cNvPr>
          <p:cNvSpPr/>
          <p:nvPr/>
        </p:nvSpPr>
        <p:spPr>
          <a:xfrm>
            <a:off x="2340000" y="530064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lastslide"/>
          </p:cNvPr>
          <p:cNvSpPr/>
          <p:nvPr/>
        </p:nvSpPr>
        <p:spPr>
          <a:xfrm>
            <a:off x="4067280" y="530064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lastslide"/>
          </p:cNvPr>
          <p:cNvSpPr/>
          <p:nvPr/>
        </p:nvSpPr>
        <p:spPr>
          <a:xfrm>
            <a:off x="5796000" y="530064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lastslide"/>
          </p:cNvPr>
          <p:cNvSpPr/>
          <p:nvPr/>
        </p:nvSpPr>
        <p:spPr>
          <a:xfrm>
            <a:off x="7380360" y="5300640"/>
            <a:ext cx="1152360" cy="1150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16000" y="5445000"/>
            <a:ext cx="1602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771640" y="5445000"/>
            <a:ext cx="160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00720" y="5445000"/>
            <a:ext cx="21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227640" y="544500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812000" y="544500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5" name=""/>
          <p:cNvSpPr/>
          <p:nvPr/>
        </p:nvSpPr>
        <p:spPr>
          <a:xfrm>
            <a:off x="1116000" y="6165720"/>
            <a:ext cx="289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6165720"/>
            <a:ext cx="289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16360" y="6165720"/>
            <a:ext cx="288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140360" y="6165720"/>
            <a:ext cx="215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00720" y="6165720"/>
            <a:ext cx="215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59280" y="6165720"/>
            <a:ext cx="216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6165720"/>
            <a:ext cx="216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6165720"/>
            <a:ext cx="216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43640" y="6165720"/>
            <a:ext cx="216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732720" y="6165720"/>
            <a:ext cx="2156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51640" y="6165720"/>
            <a:ext cx="144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67640" y="6165720"/>
            <a:ext cx="14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885080" y="6165720"/>
            <a:ext cx="14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101080" y="6165720"/>
            <a:ext cx="14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17080" y="6165720"/>
            <a:ext cx="144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12:34:13Z</dcterms:created>
  <dc:creator>trilu-lilu</dc:creator>
  <dc:description/>
  <dc:language>en-US</dc:language>
  <cp:lastModifiedBy>scoala</cp:lastModifiedBy>
  <dcterms:modified xsi:type="dcterms:W3CDTF">2009-09-14T07:55:24Z</dcterms:modified>
  <cp:revision>4</cp:revision>
  <dc:subject/>
  <dc:title>Diapozitivul 1</dc:title>
</cp:coreProperties>
</file>